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wmf" ContentType="image/x-wmf"/>
  <Override PartName="/ppt/media/image7.jpeg" ContentType="image/jpeg"/>
  <Override PartName="/ppt/media/image10.png" ContentType="image/png"/>
  <Override PartName="/ppt/media/image5.png" ContentType="image/png"/>
  <Override PartName="/ppt/media/image3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26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DC4D-D856-4228-9A1F-389F96291CC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hows how the net call is process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Fl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destination 202 answers, the conversation is establish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hows how the net call transfer is process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Fl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destination 202 answers, the conversation is establish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hows how the net call forwarding is process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Fl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destination 202 answers, the conversation is establish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hows how the net call offer is process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Fl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destination 202 presses the [CO] button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nversation is establish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hows how the net call completion is process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Fl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destination 202 answers, the conversation is establish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hows how the net CO Transit Out is process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Fl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destination 202 answers, the conversation is establish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hows how the net CO Transit In is process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Flow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destination 202 answers, the conversation is establish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hows how the BLF is process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0 assigns station 202 in a flexible butt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station 202 is busy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BLF broadcasts the busy status to the networked syste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0’s flexible button is flash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The station number, which makes a transit call, is printed instead of CO line number of networking path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is course, I will explain about Voice Networking feature  with the following ord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irst, we will review the overview of Voice Networking 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then, I will introduce our networking configuration, feature, how to connection with PRI and VOIP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at last, we will review the feature operation with some simple examples that we can exercise togeth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Ip LDK voice networking feature provides a way of communication to inter-work with networked system over VOIP or PRI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66"/>
                </a:solidFill>
                <a:latin typeface="Arial"/>
              </a:rPr>
              <a:t>Our voice networking feature is based on QSIG and H.450 protoco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66"/>
                </a:solidFill>
                <a:latin typeface="Arial"/>
              </a:rPr>
              <a:t>QSIG means Q signaling protocol and it is a series of international standards and based on Q.93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66"/>
                </a:solidFill>
                <a:latin typeface="Arial"/>
              </a:rPr>
              <a:t>H.450 is standard created by International Telecommunications Union and it is  based on H.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But, Now, we supports this feature among LG-Nortel systems.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ipLDK provides uniform numbering plan for all users in the netwo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And the networked systems can be considered as one system. so, Extension in any system can talk with other system like extension 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IpLDK system has 72 networking numbering Table. So Up to 72 systems can be inter-working via public or private netwo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So, ipLDK supports the total solution from Home office to Headquarter office with LG Nortel Systems (ipLDK-20/100/300/300E, LDK-24 and iPECS, RSG 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66"/>
                </a:solidFill>
                <a:latin typeface="Arial"/>
              </a:rPr>
              <a:t>This is overall networking configura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66"/>
                </a:solidFill>
                <a:latin typeface="Arial"/>
              </a:rPr>
              <a:t>As you see,  ipLDK systems can be networked through the ISDN PRI or IP Network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ipLDK supports the Following QSIG Featur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First, ipLDK system provides the basic net call. So you can dial the extension of other system as if you dials the internal extens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and ip LDK system provides screened or unscreened trasnf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ip LDK system provides unconditional, busy, no answer, follow me call forw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ip LDK system provides name display servic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And station A net call to station b and station A has his name, station B can check station A’s nam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ip LDK system provides call offer 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It is similar to Camp-On featur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And station A net call to station b and station B is busy state, station A can send the indication by dialing call offer cod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ip LDK system provides Message wait indication or call completion 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This is an example of QSIG Connection via VoIP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Normally we call it, IP Networking when configuring QSI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through VoIP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There is a CO line for call transit out In the master system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so slave system can access the CO line through IP network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Before programming it, IP Networking S/W Lock Key shoul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be applied in advanc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From now, we will show you how to program QSI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320 : Networking Basic Attribu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ex1: Net enable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change this field. You should have the networking lock ke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322: Net CO line Attribu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324 : networking numbering plan tabl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1: we use uniform numbering plan, so you can’t use the same code for the difference purpos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1A5-83A5-489E-959D-79023FEA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AB8-067B-4EC7-AC48-36B53C3D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A29-966F-41AB-80B8-7631B72D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3C6-66E7-4E47-A2F7-7CF41C5C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36CC-8779-498E-BD13-1FDD320E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73C6-733F-4471-9244-7CE15B83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6110-E284-4235-9406-C717BF2C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0092-4758-4C7E-8024-7514C11E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A25C-C66B-482C-8D34-4563EE75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A64A-9652-43BE-A4C4-B177C32C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07A7-0DEE-4686-8A78-52CE79AF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ECC-E768-4564-9703-33F3BC0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ADBF-E2CB-476C-B205-3ADCB90E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1E75-7DA5-442F-90CB-FE08D43E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6E4-38E7-44DE-AB42-FDA1FC8A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3E43-43C5-428F-BD09-28A5372E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4D7E-37D6-4621-9431-BCB1844F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32E-956D-4A73-BA81-E520AEDE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645-EB58-422F-9DF6-92B1BECE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4FA-7B91-45F7-8D79-CC30F1F7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AE9-661E-4E64-B1FE-1A85ABE8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0FA-BAFA-4FA0-8918-9299B85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43D-67DA-4086-8DA3-B4375B8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D91-3086-4027-A2C0-E5F1B850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B61A-56F4-48F7-9A94-9367DE6F98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C02B-C150-43EC-81EB-7E2B3A383AA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5382-5CEE-4481-820C-6852A30C9A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image" Target="../media/image8.png"/><Relationship Id="rId5" Type="http://schemas.openxmlformats.org/officeDocument/2006/relationships/image" Target="../media/image15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5.jpeg"/><Relationship Id="rId4" Type="http://schemas.openxmlformats.org/officeDocument/2006/relationships/image" Target="../media/image9.png"/><Relationship Id="rId5" Type="http://schemas.openxmlformats.org/officeDocument/2006/relationships/image" Target="../media/image15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jpe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7.jpe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6.wmf"/><Relationship Id="rId21" Type="http://schemas.openxmlformats.org/officeDocument/2006/relationships/image" Target="../media/image12.wmf"/><Relationship Id="rId22" Type="http://schemas.openxmlformats.org/officeDocument/2006/relationships/image" Target="../media/image12.wmf"/><Relationship Id="rId23" Type="http://schemas.openxmlformats.org/officeDocument/2006/relationships/image" Target="../media/image12.wmf"/><Relationship Id="rId24" Type="http://schemas.openxmlformats.org/officeDocument/2006/relationships/image" Target="../media/image1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5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5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1.png"/><Relationship Id="rId4" Type="http://schemas.openxmlformats.org/officeDocument/2006/relationships/image" Target="../media/image15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65880" y="157176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VOICE NETWORKING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86200" y="1101600"/>
            <a:ext cx="4933800" cy="49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14640" y="1227240"/>
          <a:ext cx="4899240" cy="47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4640" y="1227240"/>
                    <a:ext cx="4899240" cy="47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456480" y="4005360"/>
            <a:ext cx="2990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[Admin Programming]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Basic Attribute : PGM 320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CO Line Attribute : PGM 32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Routing Table : PGM 32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450360" y="10638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Call Flow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5985000"/>
            <a:ext cx="43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cc"/>
                </a:solidFill>
                <a:latin typeface="Arial"/>
              </a:rPr>
              <a:t>Note : During conversation, all telephony features ar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1" i="1" lang="en-US" sz="1000" spc="-1" strike="noStrike">
                <a:solidFill>
                  <a:srgbClr val="3333cc"/>
                </a:solidFill>
                <a:latin typeface="Arial"/>
              </a:rPr>
              <a:t>available.(For example, call transfer, hold, conference and etc.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163440" y="92160"/>
            <a:ext cx="35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Net Call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7408800" y="3645000"/>
            <a:ext cx="5065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7380360" y="3716280"/>
            <a:ext cx="576360" cy="701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929280" y="5157720"/>
            <a:ext cx="432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6808680" y="5180040"/>
            <a:ext cx="581040" cy="438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273640" y="1763640"/>
            <a:ext cx="485640" cy="87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5276880" y="1835280"/>
            <a:ext cx="576360" cy="701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4192560" y="1379520"/>
            <a:ext cx="514440" cy="439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327560" y="2330280"/>
            <a:ext cx="28728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4145040" y="2359080"/>
            <a:ext cx="528480" cy="404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956720" y="5067360"/>
            <a:ext cx="28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7894800" y="5203800"/>
            <a:ext cx="564840" cy="43200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525600" y="1320840"/>
            <a:ext cx="3292200" cy="1666800"/>
            <a:chOff x="525600" y="1320840"/>
            <a:chExt cx="3292200" cy="1666800"/>
          </a:xfrm>
        </p:grpSpPr>
        <p:sp>
          <p:nvSpPr>
            <p:cNvPr id="295" name=""/>
            <p:cNvSpPr/>
            <p:nvPr/>
          </p:nvSpPr>
          <p:spPr>
            <a:xfrm>
              <a:off x="533520" y="1330200"/>
              <a:ext cx="3276360" cy="181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520" y="1501920"/>
              <a:ext cx="3276360" cy="14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6080" y="13399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17960" y="1339920"/>
              <a:ext cx="29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3000" y="1511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0800" y="1511280"/>
              <a:ext cx="270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tion 101 dials Station 202 in Slave System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3000" y="167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8920" y="1673280"/>
              <a:ext cx="286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 searches Networking Numbering Table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000" y="1835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5280" y="1835280"/>
              <a:ext cx="23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** matches 202, (2** means ‘200 ~ 299’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3000" y="2073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2920" y="1996920"/>
              <a:ext cx="213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 gets destination IP addres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98560" y="215892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3000" y="232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3640" y="2320920"/>
              <a:ext cx="21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Arial"/>
                </a:rPr>
                <a:t>VoIP net call goes to destination I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000" y="2482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5000" y="2482920"/>
              <a:ext cx="224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nging at the exact destination (20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3000" y="264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1800" y="2644920"/>
              <a:ext cx="156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stination (202) answer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3000" y="2806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6400" y="2806560"/>
              <a:ext cx="168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versation is establishe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33520" y="1329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520" y="132084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74800" y="13298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4800" y="132084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440" y="1320840"/>
              <a:ext cx="32684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1960" y="132984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1960" y="132084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1440" y="1492200"/>
              <a:ext cx="32684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440" y="1663560"/>
              <a:ext cx="32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440" y="1663560"/>
              <a:ext cx="325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82720" y="1663560"/>
              <a:ext cx="290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82720" y="1663560"/>
              <a:ext cx="2909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1440" y="1825560"/>
              <a:ext cx="32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440" y="1825560"/>
              <a:ext cx="325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82720" y="1825560"/>
              <a:ext cx="290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2720" y="1825560"/>
              <a:ext cx="2909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440" y="1987560"/>
              <a:ext cx="32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1440" y="1987560"/>
              <a:ext cx="3254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82720" y="1987560"/>
              <a:ext cx="290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82720" y="1987560"/>
              <a:ext cx="2909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440" y="2311560"/>
              <a:ext cx="32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1440" y="2311560"/>
              <a:ext cx="3254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82720" y="2311560"/>
              <a:ext cx="290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82720" y="2311560"/>
              <a:ext cx="2909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440" y="2473200"/>
              <a:ext cx="32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440" y="2473200"/>
              <a:ext cx="325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82720" y="2473200"/>
              <a:ext cx="290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82720" y="2473200"/>
              <a:ext cx="2909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440" y="2635200"/>
              <a:ext cx="32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440" y="2635200"/>
              <a:ext cx="325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82720" y="2635200"/>
              <a:ext cx="290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82720" y="2635200"/>
              <a:ext cx="2909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1440" y="2797200"/>
              <a:ext cx="32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1440" y="2797200"/>
              <a:ext cx="3254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82720" y="2797200"/>
              <a:ext cx="290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82720" y="2797200"/>
              <a:ext cx="2909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5600" y="1320840"/>
              <a:ext cx="15840" cy="165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66880" y="1339920"/>
              <a:ext cx="15840" cy="163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440" y="2959200"/>
              <a:ext cx="32684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92600" y="1339920"/>
              <a:ext cx="17280" cy="163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520" y="29782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520" y="297828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74800" y="29782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800" y="297828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1960" y="29782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01960" y="297828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13302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9880" y="133020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09880" y="150192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150192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09880" y="16635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9880" y="166356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09880" y="18255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09880" y="182556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198756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9880" y="198756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9880" y="231156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09880" y="231156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09880" y="24732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9880" y="247320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9880" y="263520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09880" y="263520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09880" y="27972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9880" y="2797200"/>
              <a:ext cx="7920" cy="9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09880" y="29685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9880" y="2968560"/>
              <a:ext cx="7920" cy="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86200" y="1101600"/>
            <a:ext cx="4933800" cy="49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746600" y="2298600"/>
            <a:ext cx="2035080" cy="1025640"/>
          </a:xfrm>
          <a:prstGeom prst="cloudCallout">
            <a:avLst>
              <a:gd name="adj1" fmla="val -55574"/>
              <a:gd name="adj2" fmla="val -74282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4416480" y="2009880"/>
            <a:ext cx="77004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539040" y="3125880"/>
            <a:ext cx="1881000" cy="1427040"/>
            <a:chOff x="6539040" y="3125880"/>
            <a:chExt cx="1881000" cy="1427040"/>
          </a:xfrm>
        </p:grpSpPr>
        <p:sp>
          <p:nvSpPr>
            <p:cNvPr id="386" name=""/>
            <p:cNvSpPr/>
            <p:nvPr/>
          </p:nvSpPr>
          <p:spPr>
            <a:xfrm>
              <a:off x="6801480" y="3439080"/>
              <a:ext cx="1618560" cy="111384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39040" y="3125880"/>
              <a:ext cx="61236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996600" y="38847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5365080" y="256536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735520" y="1819080"/>
            <a:ext cx="0" cy="6109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>
            <a:off x="4597560" y="4048200"/>
            <a:ext cx="736560" cy="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4598280" y="35989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597200" y="4184640"/>
            <a:ext cx="8125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00720" y="4184640"/>
            <a:ext cx="4096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472520" y="4540320"/>
            <a:ext cx="0" cy="5270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8547120" y="5149800"/>
            <a:ext cx="169920" cy="426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8346960" y="553716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0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083120" y="412416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4853880" y="175248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1 ~ 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6163560" y="41925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7744680" y="54180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6201720" y="354024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6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734240" y="5419800"/>
            <a:ext cx="5176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72280" y="3311640"/>
            <a:ext cx="352080" cy="345960"/>
            <a:chOff x="5372280" y="3311640"/>
            <a:chExt cx="352080" cy="345960"/>
          </a:xfrm>
        </p:grpSpPr>
        <p:sp>
          <p:nvSpPr>
            <p:cNvPr id="405" name=""/>
            <p:cNvSpPr/>
            <p:nvPr/>
          </p:nvSpPr>
          <p:spPr>
            <a:xfrm flipH="1">
              <a:off x="5372280" y="3311640"/>
              <a:ext cx="352080" cy="3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83440" y="3358080"/>
              <a:ext cx="329760" cy="2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9000" y="4743360"/>
            <a:ext cx="3276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[Admin Programming]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Basic Attribute : PGM 320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Transfer Mode : PGM 321-FLEX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CO Line Attribute : PGM 32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Routing Table : PGM 32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33520" y="1330200"/>
          <a:ext cx="3276360" cy="116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30200"/>
                    <a:ext cx="32763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450360" y="10638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Call Flow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161640" y="95400"/>
            <a:ext cx="46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Net Call Transfer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5502240" y="3838680"/>
            <a:ext cx="711360" cy="7016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7115040" y="5075280"/>
            <a:ext cx="711360" cy="701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3924360" y="3693960"/>
            <a:ext cx="658800" cy="486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8459640" y="5013360"/>
            <a:ext cx="28764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7"/>
          <a:stretch/>
        </p:blipFill>
        <p:spPr>
          <a:xfrm>
            <a:off x="8263080" y="5113440"/>
            <a:ext cx="509400" cy="4381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8"/>
          <a:stretch/>
        </p:blipFill>
        <p:spPr>
          <a:xfrm>
            <a:off x="5365800" y="1197000"/>
            <a:ext cx="718920" cy="550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597560" y="2022480"/>
            <a:ext cx="990360" cy="1903320"/>
          </a:xfrm>
          <a:custGeom>
            <a:avLst/>
            <a:gdLst/>
            <a:ahLst/>
            <a:rect l="l" t="t" r="r" b="b"/>
            <a:pathLst>
              <a:path w="920" h="1344">
                <a:moveTo>
                  <a:pt x="0" y="1344"/>
                </a:moveTo>
                <a:cubicBezTo>
                  <a:pt x="216" y="1344"/>
                  <a:pt x="432" y="1344"/>
                  <a:pt x="576" y="1296"/>
                </a:cubicBezTo>
                <a:cubicBezTo>
                  <a:pt x="720" y="1248"/>
                  <a:pt x="808" y="1152"/>
                  <a:pt x="864" y="1056"/>
                </a:cubicBezTo>
                <a:cubicBezTo>
                  <a:pt x="920" y="960"/>
                  <a:pt x="904" y="896"/>
                  <a:pt x="912" y="720"/>
                </a:cubicBezTo>
                <a:cubicBezTo>
                  <a:pt x="920" y="544"/>
                  <a:pt x="896" y="120"/>
                  <a:pt x="912" y="0"/>
                </a:cubicBezTo>
              </a:path>
            </a:pathLst>
          </a:custGeom>
          <a:noFill/>
          <a:ln w="28440">
            <a:solidFill>
              <a:srgbClr val="0000ff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5884920" y="2022480"/>
            <a:ext cx="2359080" cy="3263760"/>
          </a:xfrm>
          <a:custGeom>
            <a:avLst/>
            <a:gdLst/>
            <a:ahLst/>
            <a:rect l="l" t="t" r="r" b="b"/>
            <a:pathLst>
              <a:path w="2820" h="2322">
                <a:moveTo>
                  <a:pt x="32" y="0"/>
                </a:moveTo>
                <a:cubicBezTo>
                  <a:pt x="30" y="127"/>
                  <a:pt x="0" y="561"/>
                  <a:pt x="21" y="761"/>
                </a:cubicBezTo>
                <a:cubicBezTo>
                  <a:pt x="42" y="961"/>
                  <a:pt x="32" y="1110"/>
                  <a:pt x="159" y="1198"/>
                </a:cubicBezTo>
                <a:cubicBezTo>
                  <a:pt x="286" y="1286"/>
                  <a:pt x="490" y="1271"/>
                  <a:pt x="781" y="1288"/>
                </a:cubicBezTo>
                <a:cubicBezTo>
                  <a:pt x="1072" y="1305"/>
                  <a:pt x="1641" y="1290"/>
                  <a:pt x="1904" y="1299"/>
                </a:cubicBezTo>
                <a:cubicBezTo>
                  <a:pt x="2167" y="1308"/>
                  <a:pt x="2267" y="1305"/>
                  <a:pt x="2359" y="1341"/>
                </a:cubicBezTo>
                <a:cubicBezTo>
                  <a:pt x="2451" y="1376"/>
                  <a:pt x="2441" y="1427"/>
                  <a:pt x="2457" y="1510"/>
                </a:cubicBezTo>
                <a:cubicBezTo>
                  <a:pt x="2473" y="1593"/>
                  <a:pt x="2452" y="1728"/>
                  <a:pt x="2457" y="1836"/>
                </a:cubicBezTo>
                <a:cubicBezTo>
                  <a:pt x="2462" y="1945"/>
                  <a:pt x="2461" y="2087"/>
                  <a:pt x="2486" y="2164"/>
                </a:cubicBezTo>
                <a:cubicBezTo>
                  <a:pt x="2511" y="2241"/>
                  <a:pt x="2551" y="2273"/>
                  <a:pt x="2607" y="2298"/>
                </a:cubicBezTo>
                <a:cubicBezTo>
                  <a:pt x="2663" y="2322"/>
                  <a:pt x="2776" y="2307"/>
                  <a:pt x="2820" y="231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86200" y="1101600"/>
            <a:ext cx="4933800" cy="49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557680" y="2418840"/>
            <a:ext cx="0" cy="11242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370560" y="3008160"/>
            <a:ext cx="1881360" cy="1427400"/>
            <a:chOff x="6370560" y="3008160"/>
            <a:chExt cx="1881360" cy="1427400"/>
          </a:xfrm>
        </p:grpSpPr>
        <p:sp>
          <p:nvSpPr>
            <p:cNvPr id="423" name=""/>
            <p:cNvSpPr/>
            <p:nvPr/>
          </p:nvSpPr>
          <p:spPr>
            <a:xfrm>
              <a:off x="6633000" y="3321360"/>
              <a:ext cx="1618920" cy="111420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70560" y="3008160"/>
              <a:ext cx="61236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912360" y="37051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336920" y="2104920"/>
            <a:ext cx="2169720" cy="1083600"/>
            <a:chOff x="4336920" y="2104920"/>
            <a:chExt cx="2169720" cy="1083600"/>
          </a:xfrm>
        </p:grpSpPr>
        <p:grpSp>
          <p:nvGrpSpPr>
            <p:cNvPr id="427" name=""/>
            <p:cNvGrpSpPr/>
            <p:nvPr/>
          </p:nvGrpSpPr>
          <p:grpSpPr>
            <a:xfrm>
              <a:off x="4336920" y="2104920"/>
              <a:ext cx="2169720" cy="1083600"/>
              <a:chOff x="4336920" y="2104920"/>
              <a:chExt cx="2169720" cy="1083600"/>
            </a:xfrm>
          </p:grpSpPr>
          <p:sp>
            <p:nvSpPr>
              <p:cNvPr id="428" name=""/>
              <p:cNvSpPr/>
              <p:nvPr/>
            </p:nvSpPr>
            <p:spPr>
              <a:xfrm>
                <a:off x="4639320" y="2342880"/>
                <a:ext cx="1867320" cy="845640"/>
              </a:xfrm>
              <a:prstGeom prst="cloudCallout">
                <a:avLst>
                  <a:gd name="adj1" fmla="val -55574"/>
                  <a:gd name="adj2" fmla="val -74282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36920" y="2104920"/>
                <a:ext cx="706320" cy="31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180760" y="25779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V="1">
            <a:off x="5557680" y="1780920"/>
            <a:ext cx="0" cy="6094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4625280" y="370188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8337600" y="55609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0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4105440" y="4095720"/>
            <a:ext cx="40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4650840" y="171288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5880960" y="41497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7717680" y="562284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6125400" y="34275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667480" y="1814400"/>
            <a:ext cx="2543040" cy="3419640"/>
          </a:xfrm>
          <a:custGeom>
            <a:avLst/>
            <a:gdLst/>
            <a:ahLst/>
            <a:rect l="l" t="t" r="r" b="b"/>
            <a:pathLst>
              <a:path w="2820" h="2322">
                <a:moveTo>
                  <a:pt x="32" y="0"/>
                </a:moveTo>
                <a:cubicBezTo>
                  <a:pt x="30" y="127"/>
                  <a:pt x="0" y="561"/>
                  <a:pt x="21" y="761"/>
                </a:cubicBezTo>
                <a:cubicBezTo>
                  <a:pt x="42" y="961"/>
                  <a:pt x="32" y="1110"/>
                  <a:pt x="159" y="1198"/>
                </a:cubicBezTo>
                <a:cubicBezTo>
                  <a:pt x="286" y="1286"/>
                  <a:pt x="490" y="1271"/>
                  <a:pt x="781" y="1288"/>
                </a:cubicBezTo>
                <a:cubicBezTo>
                  <a:pt x="1072" y="1305"/>
                  <a:pt x="1641" y="1290"/>
                  <a:pt x="1904" y="1299"/>
                </a:cubicBezTo>
                <a:cubicBezTo>
                  <a:pt x="2167" y="1308"/>
                  <a:pt x="2267" y="1305"/>
                  <a:pt x="2359" y="1341"/>
                </a:cubicBezTo>
                <a:cubicBezTo>
                  <a:pt x="2451" y="1376"/>
                  <a:pt x="2441" y="1427"/>
                  <a:pt x="2457" y="1510"/>
                </a:cubicBezTo>
                <a:cubicBezTo>
                  <a:pt x="2473" y="1593"/>
                  <a:pt x="2452" y="1728"/>
                  <a:pt x="2457" y="1836"/>
                </a:cubicBezTo>
                <a:cubicBezTo>
                  <a:pt x="2462" y="1945"/>
                  <a:pt x="2461" y="2087"/>
                  <a:pt x="2486" y="2164"/>
                </a:cubicBezTo>
                <a:cubicBezTo>
                  <a:pt x="2511" y="2241"/>
                  <a:pt x="2551" y="2273"/>
                  <a:pt x="2607" y="2298"/>
                </a:cubicBezTo>
                <a:cubicBezTo>
                  <a:pt x="2663" y="2322"/>
                  <a:pt x="2776" y="2307"/>
                  <a:pt x="2820" y="231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4651200" y="3948120"/>
            <a:ext cx="3559320" cy="1522440"/>
          </a:xfrm>
          <a:custGeom>
            <a:avLst/>
            <a:gdLst/>
            <a:ahLst/>
            <a:rect l="l" t="t" r="r" b="b"/>
            <a:pathLst>
              <a:path w="3775" h="995">
                <a:moveTo>
                  <a:pt x="0" y="19"/>
                </a:moveTo>
                <a:cubicBezTo>
                  <a:pt x="348" y="24"/>
                  <a:pt x="1624" y="0"/>
                  <a:pt x="2088" y="51"/>
                </a:cubicBezTo>
                <a:cubicBezTo>
                  <a:pt x="2551" y="101"/>
                  <a:pt x="2616" y="181"/>
                  <a:pt x="2779" y="320"/>
                </a:cubicBezTo>
                <a:cubicBezTo>
                  <a:pt x="2942" y="459"/>
                  <a:pt x="2900" y="779"/>
                  <a:pt x="3066" y="887"/>
                </a:cubicBezTo>
                <a:cubicBezTo>
                  <a:pt x="3232" y="995"/>
                  <a:pt x="3627" y="951"/>
                  <a:pt x="3775" y="968"/>
                </a:cubicBezTo>
              </a:path>
            </a:pathLst>
          </a:custGeom>
          <a:noFill/>
          <a:ln w="25560">
            <a:solidFill>
              <a:srgbClr val="80008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872320" y="4151160"/>
            <a:ext cx="73800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7192800" y="4400640"/>
            <a:ext cx="0" cy="49536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702200" y="5572080"/>
            <a:ext cx="507960" cy="1440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59000" y="4746600"/>
            <a:ext cx="3276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[Admin Programming]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ll Forward Attribute : PGM 111-FLEX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Basic Attribute : PGM 320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Transfer Mode : PGM 321-FLEX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CO Line Attribute : PGM 32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Routing Table : PGM 32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533520" y="1330200"/>
          <a:ext cx="3276360" cy="10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30200"/>
                    <a:ext cx="3276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450360" y="10638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Call Flow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162000" y="92160"/>
            <a:ext cx="463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Net Call Forwar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5219640" y="3645000"/>
            <a:ext cx="711360" cy="7016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6948360" y="4941720"/>
            <a:ext cx="711360" cy="7020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3924360" y="3646440"/>
            <a:ext cx="658800" cy="486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6"/>
          <a:stretch/>
        </p:blipFill>
        <p:spPr>
          <a:xfrm>
            <a:off x="8263080" y="5113440"/>
            <a:ext cx="509400" cy="4381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7"/>
          <a:stretch/>
        </p:blipFill>
        <p:spPr>
          <a:xfrm>
            <a:off x="5267160" y="1168560"/>
            <a:ext cx="71928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57560" y="4746600"/>
            <a:ext cx="282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[Admin Programming]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Basic Attribute : PGM 320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101600"/>
            <a:ext cx="4933800" cy="49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884920" y="1211400"/>
            <a:ext cx="1887120" cy="1684080"/>
            <a:chOff x="5884920" y="1211400"/>
            <a:chExt cx="1887120" cy="1684080"/>
          </a:xfrm>
        </p:grpSpPr>
        <p:sp>
          <p:nvSpPr>
            <p:cNvPr id="457" name=""/>
            <p:cNvSpPr/>
            <p:nvPr/>
          </p:nvSpPr>
          <p:spPr>
            <a:xfrm>
              <a:off x="6148080" y="1581120"/>
              <a:ext cx="1623960" cy="131436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84920" y="1211400"/>
              <a:ext cx="614160" cy="49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498000" y="20239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4490280" y="20383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8104320" y="5353200"/>
            <a:ext cx="401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20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19400" y="2728800"/>
            <a:ext cx="400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5639760" y="28764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4676760" y="2362320"/>
            <a:ext cx="3095640" cy="2895480"/>
          </a:xfrm>
          <a:custGeom>
            <a:avLst/>
            <a:gdLst/>
            <a:ahLst/>
            <a:rect l="l" t="t" r="r" b="b"/>
            <a:pathLst>
              <a:path w="3775" h="995">
                <a:moveTo>
                  <a:pt x="0" y="19"/>
                </a:moveTo>
                <a:cubicBezTo>
                  <a:pt x="348" y="24"/>
                  <a:pt x="1624" y="0"/>
                  <a:pt x="2088" y="51"/>
                </a:cubicBezTo>
                <a:cubicBezTo>
                  <a:pt x="2551" y="101"/>
                  <a:pt x="2616" y="181"/>
                  <a:pt x="2779" y="320"/>
                </a:cubicBezTo>
                <a:cubicBezTo>
                  <a:pt x="2942" y="459"/>
                  <a:pt x="2900" y="779"/>
                  <a:pt x="3066" y="887"/>
                </a:cubicBezTo>
                <a:cubicBezTo>
                  <a:pt x="3232" y="995"/>
                  <a:pt x="3627" y="951"/>
                  <a:pt x="3775" y="968"/>
                </a:cubicBezTo>
              </a:path>
            </a:pathLst>
          </a:custGeom>
          <a:noFill/>
          <a:ln w="2556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7763040" y="4156200"/>
            <a:ext cx="990360" cy="1787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7968240" y="4440240"/>
            <a:ext cx="60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7c80"/>
                </a:solidFill>
                <a:latin typeface="Arial"/>
                <a:ea typeface="HY중고딕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676760" y="2647800"/>
            <a:ext cx="403200" cy="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4500000" y="26859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5699160" y="2590920"/>
            <a:ext cx="1006560" cy="2187360"/>
          </a:xfrm>
          <a:custGeom>
            <a:avLst/>
            <a:gdLst/>
            <a:ahLst/>
            <a:rect l="l" t="t" r="r" b="b"/>
            <a:pathLst>
              <a:path w="2592" h="1280">
                <a:moveTo>
                  <a:pt x="0" y="32"/>
                </a:moveTo>
                <a:cubicBezTo>
                  <a:pt x="544" y="16"/>
                  <a:pt x="1088" y="0"/>
                  <a:pt x="1392" y="176"/>
                </a:cubicBezTo>
                <a:cubicBezTo>
                  <a:pt x="1696" y="352"/>
                  <a:pt x="1624" y="904"/>
                  <a:pt x="1824" y="1088"/>
                </a:cubicBezTo>
                <a:cubicBezTo>
                  <a:pt x="2024" y="1272"/>
                  <a:pt x="2308" y="1276"/>
                  <a:pt x="2592" y="1280"/>
                </a:cubicBezTo>
              </a:path>
            </a:pathLst>
          </a:cu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314840" y="5384880"/>
            <a:ext cx="428760" cy="2520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7239960" y="541188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4419720" y="2819520"/>
            <a:ext cx="3325680" cy="2116080"/>
          </a:xfrm>
          <a:custGeom>
            <a:avLst/>
            <a:gdLst/>
            <a:ahLst/>
            <a:rect l="l" t="t" r="r" b="b"/>
            <a:pathLst>
              <a:path w="2759" h="2337">
                <a:moveTo>
                  <a:pt x="6" y="0"/>
                </a:moveTo>
                <a:cubicBezTo>
                  <a:pt x="11" y="137"/>
                  <a:pt x="0" y="616"/>
                  <a:pt x="35" y="820"/>
                </a:cubicBezTo>
                <a:cubicBezTo>
                  <a:pt x="70" y="1024"/>
                  <a:pt x="99" y="1143"/>
                  <a:pt x="219" y="1223"/>
                </a:cubicBezTo>
                <a:cubicBezTo>
                  <a:pt x="339" y="1303"/>
                  <a:pt x="479" y="1285"/>
                  <a:pt x="755" y="1299"/>
                </a:cubicBezTo>
                <a:cubicBezTo>
                  <a:pt x="1031" y="1313"/>
                  <a:pt x="1615" y="1301"/>
                  <a:pt x="1878" y="1310"/>
                </a:cubicBezTo>
                <a:cubicBezTo>
                  <a:pt x="2141" y="1319"/>
                  <a:pt x="2241" y="1316"/>
                  <a:pt x="2333" y="1352"/>
                </a:cubicBezTo>
                <a:cubicBezTo>
                  <a:pt x="2425" y="1387"/>
                  <a:pt x="2415" y="1439"/>
                  <a:pt x="2431" y="1522"/>
                </a:cubicBezTo>
                <a:cubicBezTo>
                  <a:pt x="2447" y="1606"/>
                  <a:pt x="2425" y="1756"/>
                  <a:pt x="2431" y="1851"/>
                </a:cubicBezTo>
                <a:cubicBezTo>
                  <a:pt x="2437" y="1946"/>
                  <a:pt x="2439" y="2018"/>
                  <a:pt x="2466" y="2093"/>
                </a:cubicBezTo>
                <a:cubicBezTo>
                  <a:pt x="2493" y="2168"/>
                  <a:pt x="2543" y="2263"/>
                  <a:pt x="2592" y="2300"/>
                </a:cubicBezTo>
                <a:cubicBezTo>
                  <a:pt x="2641" y="2337"/>
                  <a:pt x="2724" y="2310"/>
                  <a:pt x="2759" y="231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334840" y="397368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450360" y="10638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Call Flow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533520" y="1330200"/>
          <a:ext cx="3276360" cy="10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30200"/>
                    <a:ext cx="3276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162000" y="9828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Call Offer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6443640" y="4724280"/>
            <a:ext cx="863640" cy="8524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7918560" y="4797360"/>
            <a:ext cx="718920" cy="5731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5076720" y="2090880"/>
            <a:ext cx="790560" cy="8524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3924360" y="2205000"/>
            <a:ext cx="6588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458280" y="4746600"/>
            <a:ext cx="3308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[Admin Programming]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Basic Attribute : PGM 320-FLEX8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1101600"/>
            <a:ext cx="4933800" cy="49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934240" y="1109520"/>
            <a:ext cx="2523600" cy="1641600"/>
            <a:chOff x="5934240" y="1109520"/>
            <a:chExt cx="2523600" cy="1641600"/>
          </a:xfrm>
        </p:grpSpPr>
        <p:sp>
          <p:nvSpPr>
            <p:cNvPr id="485" name=""/>
            <p:cNvSpPr/>
            <p:nvPr/>
          </p:nvSpPr>
          <p:spPr>
            <a:xfrm>
              <a:off x="6286320" y="1469880"/>
              <a:ext cx="2171520" cy="128124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34240" y="1109520"/>
              <a:ext cx="821520" cy="48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7150680" y="1863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>
            <a:off x="4618800" y="15541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>
            <a:off x="8094600" y="5556240"/>
            <a:ext cx="46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0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4102200" y="2362320"/>
            <a:ext cx="46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6085800" y="21240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7772400" y="4363920"/>
            <a:ext cx="1001880" cy="15354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7975800" y="4619520"/>
            <a:ext cx="67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  <a:ea typeface="HY중고딕"/>
              </a:rPr>
              <a:t>BUS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4618800" y="18273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4618800" y="252108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2438280"/>
            <a:ext cx="3316320" cy="2957760"/>
          </a:xfrm>
          <a:custGeom>
            <a:avLst/>
            <a:gdLst/>
            <a:ahLst/>
            <a:rect l="l" t="t" r="r" b="b"/>
            <a:pathLst>
              <a:path w="2759" h="2337">
                <a:moveTo>
                  <a:pt x="6" y="0"/>
                </a:moveTo>
                <a:cubicBezTo>
                  <a:pt x="11" y="137"/>
                  <a:pt x="0" y="616"/>
                  <a:pt x="35" y="820"/>
                </a:cubicBezTo>
                <a:cubicBezTo>
                  <a:pt x="70" y="1024"/>
                  <a:pt x="99" y="1143"/>
                  <a:pt x="219" y="1223"/>
                </a:cubicBezTo>
                <a:cubicBezTo>
                  <a:pt x="339" y="1303"/>
                  <a:pt x="479" y="1285"/>
                  <a:pt x="755" y="1299"/>
                </a:cubicBezTo>
                <a:cubicBezTo>
                  <a:pt x="1031" y="1313"/>
                  <a:pt x="1615" y="1301"/>
                  <a:pt x="1878" y="1310"/>
                </a:cubicBezTo>
                <a:cubicBezTo>
                  <a:pt x="2141" y="1319"/>
                  <a:pt x="2241" y="1316"/>
                  <a:pt x="2333" y="1352"/>
                </a:cubicBezTo>
                <a:cubicBezTo>
                  <a:pt x="2425" y="1387"/>
                  <a:pt x="2415" y="1439"/>
                  <a:pt x="2431" y="1522"/>
                </a:cubicBezTo>
                <a:cubicBezTo>
                  <a:pt x="2447" y="1606"/>
                  <a:pt x="2425" y="1756"/>
                  <a:pt x="2431" y="1851"/>
                </a:cubicBezTo>
                <a:cubicBezTo>
                  <a:pt x="2437" y="1946"/>
                  <a:pt x="2439" y="2018"/>
                  <a:pt x="2466" y="2093"/>
                </a:cubicBezTo>
                <a:cubicBezTo>
                  <a:pt x="2493" y="2168"/>
                  <a:pt x="2543" y="2263"/>
                  <a:pt x="2592" y="2300"/>
                </a:cubicBezTo>
                <a:cubicBezTo>
                  <a:pt x="2641" y="2337"/>
                  <a:pt x="2724" y="2310"/>
                  <a:pt x="2759" y="231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5411160" y="380988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900680" y="1828800"/>
            <a:ext cx="2911320" cy="2883960"/>
            <a:chOff x="4900680" y="1828800"/>
            <a:chExt cx="2911320" cy="2883960"/>
          </a:xfrm>
        </p:grpSpPr>
        <p:sp>
          <p:nvSpPr>
            <p:cNvPr id="499" name=""/>
            <p:cNvSpPr/>
            <p:nvPr/>
          </p:nvSpPr>
          <p:spPr>
            <a:xfrm>
              <a:off x="4900680" y="1828800"/>
              <a:ext cx="225720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57880" y="1841400"/>
              <a:ext cx="0" cy="287136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57880" y="4712760"/>
              <a:ext cx="65412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900680" y="2133720"/>
            <a:ext cx="2160360" cy="2455560"/>
            <a:chOff x="4900680" y="2133720"/>
            <a:chExt cx="2160360" cy="2455560"/>
          </a:xfrm>
        </p:grpSpPr>
        <p:sp>
          <p:nvSpPr>
            <p:cNvPr id="503" name=""/>
            <p:cNvSpPr/>
            <p:nvPr/>
          </p:nvSpPr>
          <p:spPr>
            <a:xfrm>
              <a:off x="4900680" y="2133720"/>
              <a:ext cx="2075400" cy="2016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5560" bIns="-25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76080" y="2167200"/>
              <a:ext cx="84960" cy="242208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900680" y="2362320"/>
            <a:ext cx="2911320" cy="2692080"/>
            <a:chOff x="4900680" y="2362320"/>
            <a:chExt cx="2911320" cy="2692080"/>
          </a:xfrm>
        </p:grpSpPr>
        <p:sp>
          <p:nvSpPr>
            <p:cNvPr id="506" name=""/>
            <p:cNvSpPr/>
            <p:nvPr/>
          </p:nvSpPr>
          <p:spPr>
            <a:xfrm>
              <a:off x="6912720" y="5054400"/>
              <a:ext cx="899280" cy="0"/>
            </a:xfrm>
            <a:prstGeom prst="line">
              <a:avLst/>
            </a:prstGeom>
            <a:ln w="19080">
              <a:solidFill>
                <a:srgbClr val="ff7c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12720" y="2370600"/>
              <a:ext cx="5400" cy="2683800"/>
            </a:xfrm>
            <a:prstGeom prst="line">
              <a:avLst/>
            </a:prstGeom>
            <a:ln w="19080">
              <a:solidFill>
                <a:srgbClr val="ff7c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00680" y="2362320"/>
              <a:ext cx="2012040" cy="20520"/>
            </a:xfrm>
            <a:prstGeom prst="line">
              <a:avLst/>
            </a:prstGeom>
            <a:ln w="19080">
              <a:solidFill>
                <a:srgbClr val="ff7c8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5200" bIns="-25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896000" y="2552760"/>
            <a:ext cx="2935080" cy="2966760"/>
            <a:chOff x="4896000" y="2552760"/>
            <a:chExt cx="2935080" cy="2966760"/>
          </a:xfrm>
        </p:grpSpPr>
        <p:sp>
          <p:nvSpPr>
            <p:cNvPr id="510" name=""/>
            <p:cNvSpPr/>
            <p:nvPr/>
          </p:nvSpPr>
          <p:spPr>
            <a:xfrm>
              <a:off x="4896000" y="2552760"/>
              <a:ext cx="163080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6800" y="2565720"/>
              <a:ext cx="0" cy="295380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26800" y="5519520"/>
              <a:ext cx="130428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50360" y="10638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Call Flow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33520" y="1330200"/>
          <a:ext cx="3276360" cy="10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30200"/>
                    <a:ext cx="3276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163440" y="92160"/>
            <a:ext cx="45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Call Comple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5264280" y="170172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6229440" y="45100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"/>
          <a:stretch/>
        </p:blipFill>
        <p:spPr>
          <a:xfrm>
            <a:off x="7885080" y="4871880"/>
            <a:ext cx="719280" cy="5731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3913200" y="1806480"/>
            <a:ext cx="814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60440" y="4734000"/>
            <a:ext cx="2762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[Admin Programming]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CO Line Type : PGM 322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Routing Table : PGM 32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 to CO COS : PGM 166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886200" y="1101600"/>
            <a:ext cx="4933800" cy="5070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715000" y="2666880"/>
            <a:ext cx="2972880" cy="1676520"/>
            <a:chOff x="5715000" y="2666880"/>
            <a:chExt cx="2972880" cy="1676520"/>
          </a:xfrm>
        </p:grpSpPr>
        <p:sp>
          <p:nvSpPr>
            <p:cNvPr id="524" name=""/>
            <p:cNvSpPr/>
            <p:nvPr/>
          </p:nvSpPr>
          <p:spPr>
            <a:xfrm>
              <a:off x="6129720" y="3034800"/>
              <a:ext cx="2558160" cy="130860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5000" y="2666880"/>
              <a:ext cx="9676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7013880" y="32004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952800" y="1909800"/>
            <a:ext cx="2438280" cy="823680"/>
            <a:chOff x="3952800" y="1909800"/>
            <a:chExt cx="2438280" cy="823680"/>
          </a:xfrm>
        </p:grpSpPr>
        <p:sp>
          <p:nvSpPr>
            <p:cNvPr id="528" name=""/>
            <p:cNvSpPr/>
            <p:nvPr/>
          </p:nvSpPr>
          <p:spPr>
            <a:xfrm>
              <a:off x="4292640" y="2090520"/>
              <a:ext cx="2098440" cy="64296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52800" y="1909800"/>
              <a:ext cx="7938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5003280" y="22096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324400" y="1671480"/>
            <a:ext cx="0" cy="45720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324400" y="2733480"/>
            <a:ext cx="0" cy="5331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8362800" y="50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0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687200" y="17845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639760" y="394344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7816320" y="571968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598440" y="35640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>
            <a:off x="5286240" y="3962520"/>
            <a:ext cx="2248200" cy="1211040"/>
          </a:xfrm>
          <a:custGeom>
            <a:avLst/>
            <a:gdLst/>
            <a:ahLst/>
            <a:rect l="l" t="t" r="r" b="b"/>
            <a:pathLst>
              <a:path w="1758" h="724">
                <a:moveTo>
                  <a:pt x="1745" y="724"/>
                </a:moveTo>
                <a:cubicBezTo>
                  <a:pt x="1740" y="667"/>
                  <a:pt x="1758" y="483"/>
                  <a:pt x="1716" y="384"/>
                </a:cubicBezTo>
                <a:cubicBezTo>
                  <a:pt x="1674" y="285"/>
                  <a:pt x="1609" y="192"/>
                  <a:pt x="1492" y="131"/>
                </a:cubicBezTo>
                <a:cubicBezTo>
                  <a:pt x="1375" y="70"/>
                  <a:pt x="1262" y="42"/>
                  <a:pt x="1013" y="21"/>
                </a:cubicBezTo>
                <a:cubicBezTo>
                  <a:pt x="764" y="0"/>
                  <a:pt x="211" y="8"/>
                  <a:pt x="0" y="4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>
            <a:off x="4687200" y="29163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5477040" y="1690560"/>
            <a:ext cx="2752560" cy="3826080"/>
          </a:xfrm>
          <a:custGeom>
            <a:avLst/>
            <a:gdLst/>
            <a:ahLst/>
            <a:rect l="l" t="t" r="r" b="b"/>
            <a:pathLst>
              <a:path w="2759" h="2337">
                <a:moveTo>
                  <a:pt x="6" y="0"/>
                </a:moveTo>
                <a:cubicBezTo>
                  <a:pt x="11" y="137"/>
                  <a:pt x="0" y="616"/>
                  <a:pt x="35" y="820"/>
                </a:cubicBezTo>
                <a:cubicBezTo>
                  <a:pt x="70" y="1024"/>
                  <a:pt x="99" y="1143"/>
                  <a:pt x="219" y="1223"/>
                </a:cubicBezTo>
                <a:cubicBezTo>
                  <a:pt x="339" y="1303"/>
                  <a:pt x="479" y="1285"/>
                  <a:pt x="755" y="1299"/>
                </a:cubicBezTo>
                <a:cubicBezTo>
                  <a:pt x="1031" y="1313"/>
                  <a:pt x="1615" y="1301"/>
                  <a:pt x="1878" y="1310"/>
                </a:cubicBezTo>
                <a:cubicBezTo>
                  <a:pt x="2141" y="1319"/>
                  <a:pt x="2241" y="1316"/>
                  <a:pt x="2333" y="1352"/>
                </a:cubicBezTo>
                <a:cubicBezTo>
                  <a:pt x="2425" y="1387"/>
                  <a:pt x="2415" y="1439"/>
                  <a:pt x="2431" y="1522"/>
                </a:cubicBezTo>
                <a:cubicBezTo>
                  <a:pt x="2447" y="1606"/>
                  <a:pt x="2425" y="1756"/>
                  <a:pt x="2431" y="1851"/>
                </a:cubicBezTo>
                <a:cubicBezTo>
                  <a:pt x="2437" y="1946"/>
                  <a:pt x="2439" y="2018"/>
                  <a:pt x="2466" y="2093"/>
                </a:cubicBezTo>
                <a:cubicBezTo>
                  <a:pt x="2493" y="2168"/>
                  <a:pt x="2543" y="2263"/>
                  <a:pt x="2592" y="2300"/>
                </a:cubicBezTo>
                <a:cubicBezTo>
                  <a:pt x="2641" y="2337"/>
                  <a:pt x="2724" y="2310"/>
                  <a:pt x="2759" y="231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7956720" y="5671800"/>
            <a:ext cx="258480" cy="46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"/>
          <p:cNvSpPr/>
          <p:nvPr/>
        </p:nvSpPr>
        <p:spPr>
          <a:xfrm>
            <a:off x="3962520" y="4343400"/>
            <a:ext cx="30002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dditional Programming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ster :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GM 322 : CO 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TN 1 (Net Col Group) = 02 for PSTN Lines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TN 4 (Net CO Type) = PSTN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GM 324 BIN 0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FLEX 1 (Usage) = PSTN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FLEX 2 (Net Code) = 9 (transit code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FLEX 3 (Net CO Group) = 0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GM 166 CO to CO COS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FLEX 1 (Day) : 1, FLEX 2 (Night) : 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"/>
          <p:cNvSpPr/>
          <p:nvPr/>
        </p:nvSpPr>
        <p:spPr>
          <a:xfrm>
            <a:off x="6438960" y="1168560"/>
            <a:ext cx="2314440" cy="164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dditional Programming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lave 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GM 324 BIN 1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LEX 1 (Usage) = PSTN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LEX 2 (Net Code) = 9 (transit code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LEX 3 (Net CO Group) = 0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LEX 4 (CPN) = 10.10.10.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FLEX 7 (DGT Repeat) = YES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"/>
          <p:cNvSpPr/>
          <p:nvPr/>
        </p:nvSpPr>
        <p:spPr>
          <a:xfrm>
            <a:off x="450360" y="10638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Call Flow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33520" y="1330200"/>
          <a:ext cx="3276360" cy="10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30200"/>
                    <a:ext cx="3276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61280" y="9828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CO Transit-Out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863640" cy="8524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7042320" y="5168880"/>
            <a:ext cx="863280" cy="8524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5"/>
          <a:stretch/>
        </p:blipFill>
        <p:spPr>
          <a:xfrm>
            <a:off x="5078520" y="1135080"/>
            <a:ext cx="679320" cy="4935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6"/>
          <a:stretch/>
        </p:blipFill>
        <p:spPr>
          <a:xfrm>
            <a:off x="8232840" y="5338800"/>
            <a:ext cx="51588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9720" y="4746600"/>
            <a:ext cx="276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[Admin Programming]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Routing Table : PGM 32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3851280" y="1125360"/>
            <a:ext cx="4933800" cy="49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713560" y="2819520"/>
            <a:ext cx="2710800" cy="1814040"/>
            <a:chOff x="5713560" y="2819520"/>
            <a:chExt cx="2710800" cy="1814040"/>
          </a:xfrm>
        </p:grpSpPr>
        <p:sp>
          <p:nvSpPr>
            <p:cNvPr id="555" name=""/>
            <p:cNvSpPr/>
            <p:nvPr/>
          </p:nvSpPr>
          <p:spPr>
            <a:xfrm>
              <a:off x="6091560" y="3217680"/>
              <a:ext cx="2332800" cy="141588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13560" y="2819520"/>
              <a:ext cx="882360" cy="5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6774120" y="3691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3927600" y="1817640"/>
            <a:ext cx="2155680" cy="937800"/>
            <a:chOff x="3927600" y="1817640"/>
            <a:chExt cx="2155680" cy="937800"/>
          </a:xfrm>
        </p:grpSpPr>
        <p:sp>
          <p:nvSpPr>
            <p:cNvPr id="559" name=""/>
            <p:cNvSpPr/>
            <p:nvPr/>
          </p:nvSpPr>
          <p:spPr>
            <a:xfrm>
              <a:off x="4228200" y="2023560"/>
              <a:ext cx="1855080" cy="73188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27600" y="1817640"/>
              <a:ext cx="7016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774680" y="22082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140440" y="1699920"/>
            <a:ext cx="0" cy="35244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140440" y="2755440"/>
            <a:ext cx="0" cy="4287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"/>
          <p:cNvSpPr/>
          <p:nvPr/>
        </p:nvSpPr>
        <p:spPr>
          <a:xfrm>
            <a:off x="8323200" y="560880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0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"/>
          <p:cNvSpPr/>
          <p:nvPr/>
        </p:nvSpPr>
        <p:spPr>
          <a:xfrm>
            <a:off x="4514040" y="164304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"/>
          <p:cNvSpPr/>
          <p:nvPr/>
        </p:nvSpPr>
        <p:spPr>
          <a:xfrm>
            <a:off x="6284160" y="39387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"/>
          <p:cNvSpPr/>
          <p:nvPr/>
        </p:nvSpPr>
        <p:spPr>
          <a:xfrm>
            <a:off x="7819200" y="54277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5275440" y="1674720"/>
            <a:ext cx="2896920" cy="3606840"/>
          </a:xfrm>
          <a:custGeom>
            <a:avLst/>
            <a:gdLst/>
            <a:ahLst/>
            <a:rect l="l" t="t" r="r" b="b"/>
            <a:pathLst>
              <a:path w="2759" h="2337">
                <a:moveTo>
                  <a:pt x="6" y="0"/>
                </a:moveTo>
                <a:cubicBezTo>
                  <a:pt x="11" y="137"/>
                  <a:pt x="0" y="616"/>
                  <a:pt x="35" y="820"/>
                </a:cubicBezTo>
                <a:cubicBezTo>
                  <a:pt x="70" y="1024"/>
                  <a:pt x="99" y="1143"/>
                  <a:pt x="219" y="1223"/>
                </a:cubicBezTo>
                <a:cubicBezTo>
                  <a:pt x="339" y="1303"/>
                  <a:pt x="479" y="1285"/>
                  <a:pt x="755" y="1299"/>
                </a:cubicBezTo>
                <a:cubicBezTo>
                  <a:pt x="1031" y="1313"/>
                  <a:pt x="1615" y="1301"/>
                  <a:pt x="1878" y="1310"/>
                </a:cubicBezTo>
                <a:cubicBezTo>
                  <a:pt x="2141" y="1319"/>
                  <a:pt x="2241" y="1316"/>
                  <a:pt x="2333" y="1352"/>
                </a:cubicBezTo>
                <a:cubicBezTo>
                  <a:pt x="2425" y="1387"/>
                  <a:pt x="2415" y="1439"/>
                  <a:pt x="2431" y="1522"/>
                </a:cubicBezTo>
                <a:cubicBezTo>
                  <a:pt x="2447" y="1606"/>
                  <a:pt x="2425" y="1756"/>
                  <a:pt x="2431" y="1851"/>
                </a:cubicBezTo>
                <a:cubicBezTo>
                  <a:pt x="2437" y="1946"/>
                  <a:pt x="2439" y="2018"/>
                  <a:pt x="2466" y="2093"/>
                </a:cubicBezTo>
                <a:cubicBezTo>
                  <a:pt x="2493" y="2168"/>
                  <a:pt x="2543" y="2263"/>
                  <a:pt x="2592" y="2300"/>
                </a:cubicBezTo>
                <a:cubicBezTo>
                  <a:pt x="2641" y="2337"/>
                  <a:pt x="2724" y="2310"/>
                  <a:pt x="2759" y="231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"/>
          <p:cNvSpPr/>
          <p:nvPr/>
        </p:nvSpPr>
        <p:spPr>
          <a:xfrm>
            <a:off x="7003440" y="34243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5451480" y="3909960"/>
            <a:ext cx="1962000" cy="1131840"/>
          </a:xfrm>
          <a:custGeom>
            <a:avLst/>
            <a:gdLst/>
            <a:ahLst/>
            <a:rect l="l" t="t" r="r" b="b"/>
            <a:pathLst>
              <a:path w="1758" h="724">
                <a:moveTo>
                  <a:pt x="1745" y="724"/>
                </a:moveTo>
                <a:cubicBezTo>
                  <a:pt x="1740" y="667"/>
                  <a:pt x="1758" y="483"/>
                  <a:pt x="1716" y="384"/>
                </a:cubicBezTo>
                <a:cubicBezTo>
                  <a:pt x="1674" y="285"/>
                  <a:pt x="1609" y="192"/>
                  <a:pt x="1492" y="131"/>
                </a:cubicBezTo>
                <a:cubicBezTo>
                  <a:pt x="1375" y="70"/>
                  <a:pt x="1262" y="42"/>
                  <a:pt x="1013" y="21"/>
                </a:cubicBezTo>
                <a:cubicBezTo>
                  <a:pt x="764" y="0"/>
                  <a:pt x="211" y="8"/>
                  <a:pt x="0" y="4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884720" y="5396040"/>
            <a:ext cx="284040" cy="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450360" y="105084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Call Flow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533520" y="1330200"/>
          <a:ext cx="3276360" cy="13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30200"/>
                    <a:ext cx="32763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162000" y="92160"/>
            <a:ext cx="42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CO Transit-I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572000" y="3213000"/>
            <a:ext cx="863640" cy="8524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7021440" y="5084640"/>
            <a:ext cx="863640" cy="85248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5"/>
          <a:stretch/>
        </p:blipFill>
        <p:spPr>
          <a:xfrm>
            <a:off x="4890960" y="1173240"/>
            <a:ext cx="628920" cy="457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8172360" y="5056200"/>
            <a:ext cx="509760" cy="438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4514040" y="278604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56480" y="4238640"/>
            <a:ext cx="34650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[Application]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F Manager Software(PC Application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[Admin Programming]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Supplementary Attribute : PGM 32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TCP Port Assign(FLEX2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UDP Port Assign(FLEX3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BLF Manager IP Address Assign(FLEX4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Duration of BLF Status(FLEX5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ing Routing Table : PGM 324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"/>
          <p:cNvSpPr/>
          <p:nvPr/>
        </p:nvSpPr>
        <p:spPr>
          <a:xfrm>
            <a:off x="4289400" y="1414440"/>
            <a:ext cx="2425680" cy="1069920"/>
          </a:xfrm>
          <a:prstGeom prst="cloudCallout">
            <a:avLst>
              <a:gd name="adj1" fmla="val -55574"/>
              <a:gd name="adj2" fmla="val -74282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"/>
          <p:cNvSpPr/>
          <p:nvPr/>
        </p:nvSpPr>
        <p:spPr>
          <a:xfrm>
            <a:off x="3895560" y="1112760"/>
            <a:ext cx="9176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"/>
          <p:cNvSpPr/>
          <p:nvPr/>
        </p:nvSpPr>
        <p:spPr>
          <a:xfrm>
            <a:off x="3886200" y="1101600"/>
            <a:ext cx="4933800" cy="49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5" name=""/>
          <p:cNvSpPr/>
          <p:nvPr/>
        </p:nvSpPr>
        <p:spPr>
          <a:xfrm>
            <a:off x="5005800" y="17524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"/>
          <p:cNvSpPr/>
          <p:nvPr/>
        </p:nvSpPr>
        <p:spPr>
          <a:xfrm>
            <a:off x="5486760" y="50576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Times New Roman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"/>
          <p:cNvSpPr/>
          <p:nvPr/>
        </p:nvSpPr>
        <p:spPr>
          <a:xfrm>
            <a:off x="7953480" y="526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0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"/>
          <p:cNvSpPr/>
          <p:nvPr/>
        </p:nvSpPr>
        <p:spPr>
          <a:xfrm>
            <a:off x="8077320" y="1704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"/>
          <p:cNvSpPr/>
          <p:nvPr/>
        </p:nvSpPr>
        <p:spPr>
          <a:xfrm>
            <a:off x="7562880" y="4343400"/>
            <a:ext cx="1219320" cy="137160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"/>
          <p:cNvSpPr/>
          <p:nvPr/>
        </p:nvSpPr>
        <p:spPr>
          <a:xfrm>
            <a:off x="7848720" y="45626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  <a:ea typeface="HY중고딕"/>
              </a:rPr>
              <a:t>BUS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4276800" y="4678200"/>
            <a:ext cx="914400" cy="990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4174200" y="5468760"/>
            <a:ext cx="1151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LF Manag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3647520" y="1600200"/>
            <a:ext cx="4276440" cy="3257640"/>
          </a:xfrm>
          <a:custGeom>
            <a:avLst/>
            <a:gdLst/>
            <a:ahLst/>
            <a:rect l="l" t="t" r="r" b="b"/>
            <a:pathLst>
              <a:path w="2984" h="864">
                <a:moveTo>
                  <a:pt x="2064" y="864"/>
                </a:moveTo>
                <a:cubicBezTo>
                  <a:pt x="2524" y="576"/>
                  <a:pt x="2984" y="288"/>
                  <a:pt x="2640" y="144"/>
                </a:cubicBezTo>
                <a:cubicBezTo>
                  <a:pt x="2296" y="0"/>
                  <a:pt x="1148" y="0"/>
                  <a:pt x="0" y="0"/>
                </a:cubicBezTo>
              </a:path>
            </a:pathLst>
          </a:custGeom>
          <a:noFill/>
          <a:ln w="19080">
            <a:solidFill>
              <a:srgbClr val="cc00cc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"/>
          <p:cNvSpPr/>
          <p:nvPr/>
        </p:nvSpPr>
        <p:spPr>
          <a:xfrm>
            <a:off x="3981960" y="2505240"/>
            <a:ext cx="6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Times New Roman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124600" y="4921200"/>
            <a:ext cx="2719080" cy="146160"/>
          </a:xfrm>
          <a:custGeom>
            <a:avLst/>
            <a:gdLst/>
            <a:ahLst/>
            <a:rect l="l" t="t" r="r" b="b"/>
            <a:pathLst>
              <a:path w="3775" h="995">
                <a:moveTo>
                  <a:pt x="0" y="19"/>
                </a:moveTo>
                <a:cubicBezTo>
                  <a:pt x="348" y="24"/>
                  <a:pt x="1624" y="0"/>
                  <a:pt x="2088" y="51"/>
                </a:cubicBezTo>
                <a:cubicBezTo>
                  <a:pt x="2551" y="101"/>
                  <a:pt x="2616" y="181"/>
                  <a:pt x="2779" y="320"/>
                </a:cubicBezTo>
                <a:cubicBezTo>
                  <a:pt x="2942" y="459"/>
                  <a:pt x="2900" y="779"/>
                  <a:pt x="3066" y="887"/>
                </a:cubicBezTo>
                <a:cubicBezTo>
                  <a:pt x="3232" y="995"/>
                  <a:pt x="3627" y="951"/>
                  <a:pt x="3775" y="968"/>
                </a:cubicBezTo>
              </a:path>
            </a:pathLst>
          </a:custGeom>
          <a:noFill/>
          <a:ln w="25560">
            <a:solidFill>
              <a:srgbClr val="80008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"/>
          <p:cNvSpPr/>
          <p:nvPr/>
        </p:nvSpPr>
        <p:spPr>
          <a:xfrm>
            <a:off x="450360" y="10638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Call Flow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533520" y="1330200"/>
          <a:ext cx="3276360" cy="51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30200"/>
                    <a:ext cx="3276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164160" y="92160"/>
            <a:ext cx="40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BLF Servic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6659640" y="1268280"/>
            <a:ext cx="863640" cy="8524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5"/>
          <a:stretch/>
        </p:blipFill>
        <p:spPr>
          <a:xfrm>
            <a:off x="6372360" y="4724280"/>
            <a:ext cx="863640" cy="8524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6"/>
          <a:srcRect l="0" t="3723" r="0" b="0"/>
          <a:stretch/>
        </p:blipFill>
        <p:spPr>
          <a:xfrm>
            <a:off x="7942320" y="1235160"/>
            <a:ext cx="701640" cy="5094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7"/>
          <a:srcRect l="0" t="3723" r="0" b="0"/>
          <a:stretch/>
        </p:blipFill>
        <p:spPr>
          <a:xfrm>
            <a:off x="7812000" y="4782960"/>
            <a:ext cx="70164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8600" y="828720"/>
            <a:ext cx="849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user who is in other QSIG system can activate a remote forward to a stat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the QSIG network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"/>
          <p:cNvSpPr/>
          <p:nvPr/>
        </p:nvSpPr>
        <p:spPr>
          <a:xfrm>
            <a:off x="357480" y="1589040"/>
            <a:ext cx="811332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To activate Net Call Forward- Follow-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1. Press the [MON] button and the [DND/FOR] butt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2. Dial Net Call Forward(Follow-Me Code “0”), and dial the forwarding station number of QSIG syste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3. Dial the password of the forwarding sta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4. The [DND/FOR] button will be flashing in the forwarding station and a confirmation tone will be provided if allowed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5. All call to the forwarding station will be routed to the forwarded QSIG sta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To deactivate Net Call Forward – Follow-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1. At the user’s own station, Press [DND/FOR] button flash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2. The LED of [DND/FOR] button will be off and the call forward will be cancell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>
            <a:off x="161640" y="101520"/>
            <a:ext cx="49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Follow-Me Forwar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843280" y="4005360"/>
            <a:ext cx="2972880" cy="1676160"/>
            <a:chOff x="2843280" y="4005360"/>
            <a:chExt cx="2972880" cy="1676160"/>
          </a:xfrm>
        </p:grpSpPr>
        <p:sp>
          <p:nvSpPr>
            <p:cNvPr id="608" name=""/>
            <p:cNvSpPr/>
            <p:nvPr/>
          </p:nvSpPr>
          <p:spPr>
            <a:xfrm>
              <a:off x="3258000" y="4373280"/>
              <a:ext cx="2558160" cy="130824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 Net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43280" y="4005360"/>
              <a:ext cx="96768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203640" y="4581360"/>
            <a:ext cx="2592360" cy="719280"/>
          </a:xfrm>
          <a:custGeom>
            <a:avLst/>
            <a:gdLst/>
            <a:ahLst/>
            <a:rect l="l" t="t" r="r" b="b"/>
            <a:pathLst>
              <a:path w="1758" h="724">
                <a:moveTo>
                  <a:pt x="1745" y="724"/>
                </a:moveTo>
                <a:cubicBezTo>
                  <a:pt x="1740" y="667"/>
                  <a:pt x="1758" y="483"/>
                  <a:pt x="1716" y="384"/>
                </a:cubicBezTo>
                <a:cubicBezTo>
                  <a:pt x="1674" y="285"/>
                  <a:pt x="1609" y="192"/>
                  <a:pt x="1492" y="131"/>
                </a:cubicBezTo>
                <a:cubicBezTo>
                  <a:pt x="1375" y="70"/>
                  <a:pt x="1262" y="42"/>
                  <a:pt x="1013" y="21"/>
                </a:cubicBezTo>
                <a:cubicBezTo>
                  <a:pt x="764" y="0"/>
                  <a:pt x="211" y="8"/>
                  <a:pt x="0" y="4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"/>
          <p:cNvSpPr/>
          <p:nvPr/>
        </p:nvSpPr>
        <p:spPr>
          <a:xfrm>
            <a:off x="6659640" y="4869000"/>
            <a:ext cx="12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Passsword: 123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1617840" y="47973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2268360" y="508464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ystem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5722920" y="62085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ystem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5724360" y="5373720"/>
            <a:ext cx="790920" cy="7920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2340000" y="4221000"/>
            <a:ext cx="790560" cy="79236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3"/>
          <a:srcRect l="0" t="3723" r="0" b="0"/>
          <a:stretch/>
        </p:blipFill>
        <p:spPr>
          <a:xfrm>
            <a:off x="1503360" y="4297320"/>
            <a:ext cx="701640" cy="50976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4"/>
          <a:srcRect l="0" t="3723" r="0" b="0"/>
          <a:stretch/>
        </p:blipFill>
        <p:spPr>
          <a:xfrm>
            <a:off x="6597720" y="5383080"/>
            <a:ext cx="70164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50920" y="838080"/>
            <a:ext cx="83534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transit call is printed with a QSIG slave station number at QSIG master syste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p to 4 digits are displayed at station column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"/>
          <p:cNvSpPr/>
          <p:nvPr/>
        </p:nvSpPr>
        <p:spPr>
          <a:xfrm>
            <a:off x="1246320" y="3778200"/>
            <a:ext cx="609480" cy="45720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244800" y="1660680"/>
            <a:ext cx="7698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1. The station number, which makes a transit call, is printed instead of CO line number of networking path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407880" y="3016080"/>
            <a:ext cx="5981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---- Site Name : MASTER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NO  STA   CO   TIME     START               DIALED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----- --------- ------ -------- -------------- 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0027 200   001 00:00:05 02/02/01 05:46 O85620140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"/>
          <p:cNvSpPr/>
          <p:nvPr/>
        </p:nvSpPr>
        <p:spPr>
          <a:xfrm>
            <a:off x="1607040" y="2543040"/>
            <a:ext cx="25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QSIG Slave Station Numb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550520" y="2787480"/>
            <a:ext cx="68580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5" name=""/>
          <p:cNvSpPr/>
          <p:nvPr/>
        </p:nvSpPr>
        <p:spPr>
          <a:xfrm>
            <a:off x="162360" y="98280"/>
            <a:ext cx="48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 Operation (Centralized SMDR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3995640" y="4632480"/>
            <a:ext cx="2973240" cy="1676160"/>
            <a:chOff x="3995640" y="4632480"/>
            <a:chExt cx="2973240" cy="1676160"/>
          </a:xfrm>
        </p:grpSpPr>
        <p:sp>
          <p:nvSpPr>
            <p:cNvPr id="627" name=""/>
            <p:cNvSpPr/>
            <p:nvPr/>
          </p:nvSpPr>
          <p:spPr>
            <a:xfrm>
              <a:off x="4410360" y="5000400"/>
              <a:ext cx="2558520" cy="130824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95640" y="4632480"/>
              <a:ext cx="96768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5151960" y="55404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900000" y="4869000"/>
            <a:ext cx="2438280" cy="823320"/>
            <a:chOff x="900000" y="4869000"/>
            <a:chExt cx="2438280" cy="823320"/>
          </a:xfrm>
        </p:grpSpPr>
        <p:sp>
          <p:nvSpPr>
            <p:cNvPr id="631" name=""/>
            <p:cNvSpPr/>
            <p:nvPr/>
          </p:nvSpPr>
          <p:spPr>
            <a:xfrm>
              <a:off x="1239840" y="5049720"/>
              <a:ext cx="2098440" cy="642600"/>
            </a:xfrm>
            <a:prstGeom prst="cloudCallout">
              <a:avLst>
                <a:gd name="adj1" fmla="val -55574"/>
                <a:gd name="adj2" fmla="val -74282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00000" y="4869000"/>
              <a:ext cx="793800" cy="24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1950480" y="51688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2009880" y="4262400"/>
            <a:ext cx="761760" cy="5349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 flipV="1">
            <a:off x="2352600" y="4743360"/>
            <a:ext cx="0" cy="45720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"/>
          <p:cNvSpPr/>
          <p:nvPr/>
        </p:nvSpPr>
        <p:spPr>
          <a:xfrm>
            <a:off x="8191440" y="5076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800840" y="5665680"/>
            <a:ext cx="392400" cy="324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"/>
          <p:cNvSpPr/>
          <p:nvPr/>
        </p:nvSpPr>
        <p:spPr>
          <a:xfrm>
            <a:off x="3564000" y="46245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7020000" y="5300640"/>
            <a:ext cx="790560" cy="79236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3"/>
          <a:srcRect l="0" t="3723" r="0" b="0"/>
          <a:stretch/>
        </p:blipFill>
        <p:spPr>
          <a:xfrm>
            <a:off x="8224920" y="5373720"/>
            <a:ext cx="609480" cy="442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4"/>
          <a:stretch/>
        </p:blipFill>
        <p:spPr>
          <a:xfrm>
            <a:off x="3468600" y="4869000"/>
            <a:ext cx="790560" cy="79200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484360" y="4869000"/>
            <a:ext cx="5745240" cy="647640"/>
          </a:xfrm>
          <a:custGeom>
            <a:avLst/>
            <a:gdLst/>
            <a:ahLst/>
            <a:rect l="l" t="t" r="r" b="b"/>
            <a:pathLst>
              <a:path w="2759" h="2337">
                <a:moveTo>
                  <a:pt x="6" y="0"/>
                </a:moveTo>
                <a:cubicBezTo>
                  <a:pt x="11" y="137"/>
                  <a:pt x="0" y="616"/>
                  <a:pt x="35" y="820"/>
                </a:cubicBezTo>
                <a:cubicBezTo>
                  <a:pt x="70" y="1024"/>
                  <a:pt x="99" y="1143"/>
                  <a:pt x="219" y="1223"/>
                </a:cubicBezTo>
                <a:cubicBezTo>
                  <a:pt x="339" y="1303"/>
                  <a:pt x="479" y="1285"/>
                  <a:pt x="755" y="1299"/>
                </a:cubicBezTo>
                <a:cubicBezTo>
                  <a:pt x="1031" y="1313"/>
                  <a:pt x="1615" y="1301"/>
                  <a:pt x="1878" y="1310"/>
                </a:cubicBezTo>
                <a:cubicBezTo>
                  <a:pt x="2141" y="1319"/>
                  <a:pt x="2241" y="1316"/>
                  <a:pt x="2333" y="1352"/>
                </a:cubicBezTo>
                <a:cubicBezTo>
                  <a:pt x="2425" y="1387"/>
                  <a:pt x="2415" y="1439"/>
                  <a:pt x="2431" y="1522"/>
                </a:cubicBezTo>
                <a:cubicBezTo>
                  <a:pt x="2447" y="1606"/>
                  <a:pt x="2425" y="1756"/>
                  <a:pt x="2431" y="1851"/>
                </a:cubicBezTo>
                <a:cubicBezTo>
                  <a:pt x="2437" y="1946"/>
                  <a:pt x="2439" y="2018"/>
                  <a:pt x="2466" y="2093"/>
                </a:cubicBezTo>
                <a:cubicBezTo>
                  <a:pt x="2493" y="2168"/>
                  <a:pt x="2543" y="2263"/>
                  <a:pt x="2592" y="2300"/>
                </a:cubicBezTo>
                <a:cubicBezTo>
                  <a:pt x="2641" y="2337"/>
                  <a:pt x="2724" y="2310"/>
                  <a:pt x="2759" y="2312"/>
                </a:cubicBezTo>
              </a:path>
            </a:pathLst>
          </a:custGeom>
          <a:noFill/>
          <a:ln w="19080">
            <a:solidFill>
              <a:srgbClr val="3333cc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954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1700280"/>
            <a:ext cx="38894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Overview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Overall Networking Configur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LG IP Networking Solu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Featur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VoIP Connec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Feature Oper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552600" y="4164120"/>
            <a:ext cx="2724120" cy="19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MPB IP  : 192.168. 23. 1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VOIB IP : 192. 168. 23. 1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29000"/>
                </a:solidFill>
                <a:latin typeface="Arial"/>
                <a:ea typeface="굴림체"/>
              </a:rPr>
              <a:t>[ (A) Admin Programming 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0-BTN1 NET ENABLE : ON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2-BTN1 NET CO GRP : 01/02/0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(01:VOIB, 02:VOIB, 03:LCOB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2-BTN4 NET CO TYPE : NET/NET/PSTN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4 NET NUM PLAY TABL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- 00 : NET   1#*** (00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- 01 : NET   2***   (01) 192.168.23.13 (CPN INFO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02 : NET   3***   (02) 192.168.23.15 (CPN INFO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- 03 : PSTN 9       (02) Digit Repeat : No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3290040" y="4164120"/>
            <a:ext cx="273204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MPB IP  : 192.168. 23. 1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VOIB IP : 192.168. 23. 1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29000"/>
                </a:solidFill>
                <a:latin typeface="Arial"/>
                <a:ea typeface="굴림체"/>
              </a:rPr>
              <a:t>[ (B) Admin Programming 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0-BTN1 NET ENABLE : ON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2-BTN1 NET CO GRP  : 01/0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(01:VOIB, 02:VOIB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2-BTN4 NET CO TYPE : NET/NE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4 NET NUM PLAY TABL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- 00 : NET   2#*** (00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01 : NET   1***   (01) 192.168.23.11 (CPN INFO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02 : NET   3***   (02) 192.168.23.15 (CPN INFO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- 03 : PSTN 9       (01) 192.168.23.11 (CPN INFO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Digit Repeat : Yes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6162120" y="4164120"/>
            <a:ext cx="27316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MPB IP  : 192.168. 23. 14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VOIB IP : 192.168. 23. 1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29000"/>
                </a:solidFill>
                <a:latin typeface="Arial"/>
                <a:ea typeface="굴림체"/>
              </a:rPr>
              <a:t>[ (C) Admin Programming 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0-BTN1 NET ENABLE : ON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2-BTN1 NET CO GRP  : 01/0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(01:VOIB, 02:VOIB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2-BTN4 NET CO TYPE : NET/NE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PGM324 NET NUM PLAY TABL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- 00 : NET 3#*** (00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- 01 : NET 1***   (01) 192.168. 23. 11 (CPN INFO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02 : NET 2***   (02) 192.168. 23. 13 (CPN INFO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03 : PSTN/9     (01) 192.168. 23. 11 (CPN INFO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체"/>
              </a:rPr>
              <a:t>Digit Repeat : Yes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828000" y="392904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A) ipLDK-60 (1***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"/>
          <p:cNvSpPr/>
          <p:nvPr/>
        </p:nvSpPr>
        <p:spPr>
          <a:xfrm>
            <a:off x="3636000" y="392904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B) ipLDK-60 (2***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"/>
          <p:cNvSpPr/>
          <p:nvPr/>
        </p:nvSpPr>
        <p:spPr>
          <a:xfrm>
            <a:off x="6517440" y="392904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C) ipLDK-60 (3***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"/>
          <p:cNvSpPr/>
          <p:nvPr/>
        </p:nvSpPr>
        <p:spPr>
          <a:xfrm>
            <a:off x="4462560" y="83016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"/>
          <p:cNvSpPr/>
          <p:nvPr/>
        </p:nvSpPr>
        <p:spPr>
          <a:xfrm>
            <a:off x="4662720" y="122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체"/>
              </a:rPr>
              <a:t>WA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995640" y="687240"/>
            <a:ext cx="931680" cy="469800"/>
            <a:chOff x="3995640" y="687240"/>
            <a:chExt cx="931680" cy="469800"/>
          </a:xfrm>
        </p:grpSpPr>
        <p:sp>
          <p:nvSpPr>
            <p:cNvPr id="652" name=""/>
            <p:cNvSpPr/>
            <p:nvPr/>
          </p:nvSpPr>
          <p:spPr>
            <a:xfrm>
              <a:off x="3995640" y="687240"/>
              <a:ext cx="931680" cy="469800"/>
            </a:xfrm>
            <a:custGeom>
              <a:avLst/>
              <a:gdLst/>
              <a:ahLst/>
              <a:rect l="l" t="t" r="r" b="b"/>
              <a:pathLst>
                <a:path w="832" h="336">
                  <a:moveTo>
                    <a:pt x="132" y="79"/>
                  </a:moveTo>
                  <a:lnTo>
                    <a:pt x="139" y="70"/>
                  </a:lnTo>
                  <a:lnTo>
                    <a:pt x="149" y="60"/>
                  </a:lnTo>
                  <a:lnTo>
                    <a:pt x="166" y="53"/>
                  </a:lnTo>
                  <a:lnTo>
                    <a:pt x="186" y="46"/>
                  </a:lnTo>
                  <a:lnTo>
                    <a:pt x="204" y="44"/>
                  </a:lnTo>
                  <a:lnTo>
                    <a:pt x="224" y="40"/>
                  </a:lnTo>
                  <a:lnTo>
                    <a:pt x="257" y="39"/>
                  </a:lnTo>
                  <a:lnTo>
                    <a:pt x="288" y="40"/>
                  </a:lnTo>
                  <a:lnTo>
                    <a:pt x="316" y="44"/>
                  </a:lnTo>
                  <a:lnTo>
                    <a:pt x="338" y="49"/>
                  </a:lnTo>
                  <a:lnTo>
                    <a:pt x="350" y="32"/>
                  </a:lnTo>
                  <a:lnTo>
                    <a:pt x="367" y="21"/>
                  </a:lnTo>
                  <a:lnTo>
                    <a:pt x="389" y="11"/>
                  </a:lnTo>
                  <a:lnTo>
                    <a:pt x="417" y="5"/>
                  </a:lnTo>
                  <a:lnTo>
                    <a:pt x="453" y="0"/>
                  </a:lnTo>
                  <a:lnTo>
                    <a:pt x="487" y="0"/>
                  </a:lnTo>
                  <a:lnTo>
                    <a:pt x="519" y="2"/>
                  </a:lnTo>
                  <a:lnTo>
                    <a:pt x="554" y="8"/>
                  </a:lnTo>
                  <a:lnTo>
                    <a:pt x="581" y="18"/>
                  </a:lnTo>
                  <a:lnTo>
                    <a:pt x="599" y="28"/>
                  </a:lnTo>
                  <a:lnTo>
                    <a:pt x="611" y="39"/>
                  </a:lnTo>
                  <a:lnTo>
                    <a:pt x="614" y="51"/>
                  </a:lnTo>
                  <a:lnTo>
                    <a:pt x="639" y="48"/>
                  </a:lnTo>
                  <a:lnTo>
                    <a:pt x="667" y="49"/>
                  </a:lnTo>
                  <a:lnTo>
                    <a:pt x="691" y="53"/>
                  </a:lnTo>
                  <a:lnTo>
                    <a:pt x="713" y="62"/>
                  </a:lnTo>
                  <a:lnTo>
                    <a:pt x="727" y="74"/>
                  </a:lnTo>
                  <a:lnTo>
                    <a:pt x="732" y="86"/>
                  </a:lnTo>
                  <a:lnTo>
                    <a:pt x="732" y="96"/>
                  </a:lnTo>
                  <a:lnTo>
                    <a:pt x="746" y="95"/>
                  </a:lnTo>
                  <a:lnTo>
                    <a:pt x="763" y="97"/>
                  </a:lnTo>
                  <a:lnTo>
                    <a:pt x="781" y="102"/>
                  </a:lnTo>
                  <a:lnTo>
                    <a:pt x="794" y="107"/>
                  </a:lnTo>
                  <a:lnTo>
                    <a:pt x="804" y="112"/>
                  </a:lnTo>
                  <a:lnTo>
                    <a:pt x="811" y="118"/>
                  </a:lnTo>
                  <a:lnTo>
                    <a:pt x="820" y="125"/>
                  </a:lnTo>
                  <a:lnTo>
                    <a:pt x="825" y="133"/>
                  </a:lnTo>
                  <a:lnTo>
                    <a:pt x="827" y="140"/>
                  </a:lnTo>
                  <a:lnTo>
                    <a:pt x="824" y="147"/>
                  </a:lnTo>
                  <a:lnTo>
                    <a:pt x="818" y="156"/>
                  </a:lnTo>
                  <a:lnTo>
                    <a:pt x="825" y="165"/>
                  </a:lnTo>
                  <a:lnTo>
                    <a:pt x="829" y="175"/>
                  </a:lnTo>
                  <a:lnTo>
                    <a:pt x="830" y="184"/>
                  </a:lnTo>
                  <a:lnTo>
                    <a:pt x="827" y="195"/>
                  </a:lnTo>
                  <a:lnTo>
                    <a:pt x="823" y="202"/>
                  </a:lnTo>
                  <a:lnTo>
                    <a:pt x="815" y="210"/>
                  </a:lnTo>
                  <a:lnTo>
                    <a:pt x="827" y="221"/>
                  </a:lnTo>
                  <a:lnTo>
                    <a:pt x="830" y="228"/>
                  </a:lnTo>
                  <a:lnTo>
                    <a:pt x="831" y="239"/>
                  </a:lnTo>
                  <a:lnTo>
                    <a:pt x="829" y="249"/>
                  </a:lnTo>
                  <a:lnTo>
                    <a:pt x="821" y="261"/>
                  </a:lnTo>
                  <a:lnTo>
                    <a:pt x="811" y="269"/>
                  </a:lnTo>
                  <a:lnTo>
                    <a:pt x="796" y="277"/>
                  </a:lnTo>
                  <a:lnTo>
                    <a:pt x="771" y="284"/>
                  </a:lnTo>
                  <a:lnTo>
                    <a:pt x="746" y="287"/>
                  </a:lnTo>
                  <a:lnTo>
                    <a:pt x="723" y="285"/>
                  </a:lnTo>
                  <a:lnTo>
                    <a:pt x="706" y="281"/>
                  </a:lnTo>
                  <a:lnTo>
                    <a:pt x="695" y="289"/>
                  </a:lnTo>
                  <a:lnTo>
                    <a:pt x="684" y="295"/>
                  </a:lnTo>
                  <a:lnTo>
                    <a:pt x="674" y="299"/>
                  </a:lnTo>
                  <a:lnTo>
                    <a:pt x="655" y="305"/>
                  </a:lnTo>
                  <a:lnTo>
                    <a:pt x="639" y="309"/>
                  </a:lnTo>
                  <a:lnTo>
                    <a:pt x="614" y="312"/>
                  </a:lnTo>
                  <a:lnTo>
                    <a:pt x="590" y="311"/>
                  </a:lnTo>
                  <a:lnTo>
                    <a:pt x="567" y="308"/>
                  </a:lnTo>
                  <a:lnTo>
                    <a:pt x="545" y="301"/>
                  </a:lnTo>
                  <a:lnTo>
                    <a:pt x="533" y="312"/>
                  </a:lnTo>
                  <a:lnTo>
                    <a:pt x="521" y="318"/>
                  </a:lnTo>
                  <a:lnTo>
                    <a:pt x="507" y="324"/>
                  </a:lnTo>
                  <a:lnTo>
                    <a:pt x="490" y="328"/>
                  </a:lnTo>
                  <a:lnTo>
                    <a:pt x="470" y="330"/>
                  </a:lnTo>
                  <a:lnTo>
                    <a:pt x="452" y="330"/>
                  </a:lnTo>
                  <a:lnTo>
                    <a:pt x="434" y="328"/>
                  </a:lnTo>
                  <a:lnTo>
                    <a:pt x="414" y="322"/>
                  </a:lnTo>
                  <a:lnTo>
                    <a:pt x="401" y="317"/>
                  </a:lnTo>
                  <a:lnTo>
                    <a:pt x="389" y="324"/>
                  </a:lnTo>
                  <a:lnTo>
                    <a:pt x="377" y="328"/>
                  </a:lnTo>
                  <a:lnTo>
                    <a:pt x="362" y="332"/>
                  </a:lnTo>
                  <a:lnTo>
                    <a:pt x="340" y="335"/>
                  </a:lnTo>
                  <a:lnTo>
                    <a:pt x="318" y="334"/>
                  </a:lnTo>
                  <a:lnTo>
                    <a:pt x="296" y="331"/>
                  </a:lnTo>
                  <a:lnTo>
                    <a:pt x="278" y="326"/>
                  </a:lnTo>
                  <a:lnTo>
                    <a:pt x="262" y="317"/>
                  </a:lnTo>
                  <a:lnTo>
                    <a:pt x="252" y="308"/>
                  </a:lnTo>
                  <a:lnTo>
                    <a:pt x="234" y="311"/>
                  </a:lnTo>
                  <a:lnTo>
                    <a:pt x="214" y="313"/>
                  </a:lnTo>
                  <a:lnTo>
                    <a:pt x="191" y="312"/>
                  </a:lnTo>
                  <a:lnTo>
                    <a:pt x="171" y="308"/>
                  </a:lnTo>
                  <a:lnTo>
                    <a:pt x="155" y="301"/>
                  </a:lnTo>
                  <a:lnTo>
                    <a:pt x="143" y="295"/>
                  </a:lnTo>
                  <a:lnTo>
                    <a:pt x="131" y="287"/>
                  </a:lnTo>
                  <a:lnTo>
                    <a:pt x="129" y="277"/>
                  </a:lnTo>
                  <a:lnTo>
                    <a:pt x="118" y="280"/>
                  </a:lnTo>
                  <a:lnTo>
                    <a:pt x="99" y="280"/>
                  </a:lnTo>
                  <a:lnTo>
                    <a:pt x="77" y="277"/>
                  </a:lnTo>
                  <a:lnTo>
                    <a:pt x="55" y="270"/>
                  </a:lnTo>
                  <a:lnTo>
                    <a:pt x="41" y="262"/>
                  </a:lnTo>
                  <a:lnTo>
                    <a:pt x="28" y="251"/>
                  </a:lnTo>
                  <a:lnTo>
                    <a:pt x="22" y="239"/>
                  </a:lnTo>
                  <a:lnTo>
                    <a:pt x="18" y="223"/>
                  </a:lnTo>
                  <a:lnTo>
                    <a:pt x="19" y="212"/>
                  </a:lnTo>
                  <a:lnTo>
                    <a:pt x="27" y="196"/>
                  </a:lnTo>
                  <a:lnTo>
                    <a:pt x="12" y="187"/>
                  </a:lnTo>
                  <a:lnTo>
                    <a:pt x="4" y="176"/>
                  </a:lnTo>
                  <a:lnTo>
                    <a:pt x="0" y="163"/>
                  </a:lnTo>
                  <a:lnTo>
                    <a:pt x="0" y="149"/>
                  </a:lnTo>
                  <a:lnTo>
                    <a:pt x="5" y="136"/>
                  </a:lnTo>
                  <a:lnTo>
                    <a:pt x="15" y="126"/>
                  </a:lnTo>
                  <a:lnTo>
                    <a:pt x="31" y="114"/>
                  </a:lnTo>
                  <a:lnTo>
                    <a:pt x="49" y="106"/>
                  </a:lnTo>
                  <a:lnTo>
                    <a:pt x="69" y="97"/>
                  </a:lnTo>
                  <a:lnTo>
                    <a:pt x="95" y="92"/>
                  </a:lnTo>
                  <a:lnTo>
                    <a:pt x="119" y="88"/>
                  </a:lnTo>
                  <a:lnTo>
                    <a:pt x="131" y="87"/>
                  </a:lnTo>
                  <a:lnTo>
                    <a:pt x="132" y="79"/>
                  </a:lnTo>
                </a:path>
              </a:pathLst>
            </a:custGeom>
            <a:solidFill>
              <a:srgbClr val="ccffff"/>
            </a:solidFill>
            <a:ln cap="rnd" w="25560">
              <a:solidFill>
                <a:srgbClr val="cc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34240" y="766800"/>
              <a:ext cx="784080" cy="291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33cc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4195800" y="1263600"/>
            <a:ext cx="533520" cy="30960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2195640" y="833400"/>
            <a:ext cx="931680" cy="469800"/>
            <a:chOff x="2195640" y="833400"/>
            <a:chExt cx="931680" cy="469800"/>
          </a:xfrm>
        </p:grpSpPr>
        <p:sp>
          <p:nvSpPr>
            <p:cNvPr id="656" name=""/>
            <p:cNvSpPr/>
            <p:nvPr/>
          </p:nvSpPr>
          <p:spPr>
            <a:xfrm>
              <a:off x="2195640" y="833400"/>
              <a:ext cx="931680" cy="469800"/>
            </a:xfrm>
            <a:custGeom>
              <a:avLst/>
              <a:gdLst/>
              <a:ahLst/>
              <a:rect l="l" t="t" r="r" b="b"/>
              <a:pathLst>
                <a:path w="832" h="336">
                  <a:moveTo>
                    <a:pt x="132" y="79"/>
                  </a:moveTo>
                  <a:lnTo>
                    <a:pt x="139" y="70"/>
                  </a:lnTo>
                  <a:lnTo>
                    <a:pt x="149" y="60"/>
                  </a:lnTo>
                  <a:lnTo>
                    <a:pt x="166" y="53"/>
                  </a:lnTo>
                  <a:lnTo>
                    <a:pt x="186" y="46"/>
                  </a:lnTo>
                  <a:lnTo>
                    <a:pt x="204" y="44"/>
                  </a:lnTo>
                  <a:lnTo>
                    <a:pt x="224" y="40"/>
                  </a:lnTo>
                  <a:lnTo>
                    <a:pt x="257" y="39"/>
                  </a:lnTo>
                  <a:lnTo>
                    <a:pt x="288" y="40"/>
                  </a:lnTo>
                  <a:lnTo>
                    <a:pt x="316" y="44"/>
                  </a:lnTo>
                  <a:lnTo>
                    <a:pt x="338" y="49"/>
                  </a:lnTo>
                  <a:lnTo>
                    <a:pt x="350" y="32"/>
                  </a:lnTo>
                  <a:lnTo>
                    <a:pt x="367" y="21"/>
                  </a:lnTo>
                  <a:lnTo>
                    <a:pt x="389" y="11"/>
                  </a:lnTo>
                  <a:lnTo>
                    <a:pt x="417" y="5"/>
                  </a:lnTo>
                  <a:lnTo>
                    <a:pt x="453" y="0"/>
                  </a:lnTo>
                  <a:lnTo>
                    <a:pt x="487" y="0"/>
                  </a:lnTo>
                  <a:lnTo>
                    <a:pt x="519" y="2"/>
                  </a:lnTo>
                  <a:lnTo>
                    <a:pt x="554" y="8"/>
                  </a:lnTo>
                  <a:lnTo>
                    <a:pt x="581" y="18"/>
                  </a:lnTo>
                  <a:lnTo>
                    <a:pt x="599" y="28"/>
                  </a:lnTo>
                  <a:lnTo>
                    <a:pt x="611" y="39"/>
                  </a:lnTo>
                  <a:lnTo>
                    <a:pt x="614" y="51"/>
                  </a:lnTo>
                  <a:lnTo>
                    <a:pt x="639" y="48"/>
                  </a:lnTo>
                  <a:lnTo>
                    <a:pt x="667" y="49"/>
                  </a:lnTo>
                  <a:lnTo>
                    <a:pt x="691" y="53"/>
                  </a:lnTo>
                  <a:lnTo>
                    <a:pt x="713" y="62"/>
                  </a:lnTo>
                  <a:lnTo>
                    <a:pt x="727" y="74"/>
                  </a:lnTo>
                  <a:lnTo>
                    <a:pt x="732" y="86"/>
                  </a:lnTo>
                  <a:lnTo>
                    <a:pt x="732" y="96"/>
                  </a:lnTo>
                  <a:lnTo>
                    <a:pt x="746" y="95"/>
                  </a:lnTo>
                  <a:lnTo>
                    <a:pt x="763" y="97"/>
                  </a:lnTo>
                  <a:lnTo>
                    <a:pt x="781" y="102"/>
                  </a:lnTo>
                  <a:lnTo>
                    <a:pt x="794" y="107"/>
                  </a:lnTo>
                  <a:lnTo>
                    <a:pt x="804" y="112"/>
                  </a:lnTo>
                  <a:lnTo>
                    <a:pt x="811" y="118"/>
                  </a:lnTo>
                  <a:lnTo>
                    <a:pt x="820" y="125"/>
                  </a:lnTo>
                  <a:lnTo>
                    <a:pt x="825" y="133"/>
                  </a:lnTo>
                  <a:lnTo>
                    <a:pt x="827" y="140"/>
                  </a:lnTo>
                  <a:lnTo>
                    <a:pt x="824" y="147"/>
                  </a:lnTo>
                  <a:lnTo>
                    <a:pt x="818" y="156"/>
                  </a:lnTo>
                  <a:lnTo>
                    <a:pt x="825" y="165"/>
                  </a:lnTo>
                  <a:lnTo>
                    <a:pt x="829" y="175"/>
                  </a:lnTo>
                  <a:lnTo>
                    <a:pt x="830" y="184"/>
                  </a:lnTo>
                  <a:lnTo>
                    <a:pt x="827" y="195"/>
                  </a:lnTo>
                  <a:lnTo>
                    <a:pt x="823" y="202"/>
                  </a:lnTo>
                  <a:lnTo>
                    <a:pt x="815" y="210"/>
                  </a:lnTo>
                  <a:lnTo>
                    <a:pt x="827" y="221"/>
                  </a:lnTo>
                  <a:lnTo>
                    <a:pt x="830" y="228"/>
                  </a:lnTo>
                  <a:lnTo>
                    <a:pt x="831" y="239"/>
                  </a:lnTo>
                  <a:lnTo>
                    <a:pt x="829" y="249"/>
                  </a:lnTo>
                  <a:lnTo>
                    <a:pt x="821" y="261"/>
                  </a:lnTo>
                  <a:lnTo>
                    <a:pt x="811" y="269"/>
                  </a:lnTo>
                  <a:lnTo>
                    <a:pt x="796" y="277"/>
                  </a:lnTo>
                  <a:lnTo>
                    <a:pt x="771" y="284"/>
                  </a:lnTo>
                  <a:lnTo>
                    <a:pt x="746" y="287"/>
                  </a:lnTo>
                  <a:lnTo>
                    <a:pt x="723" y="285"/>
                  </a:lnTo>
                  <a:lnTo>
                    <a:pt x="706" y="281"/>
                  </a:lnTo>
                  <a:lnTo>
                    <a:pt x="695" y="289"/>
                  </a:lnTo>
                  <a:lnTo>
                    <a:pt x="684" y="295"/>
                  </a:lnTo>
                  <a:lnTo>
                    <a:pt x="674" y="299"/>
                  </a:lnTo>
                  <a:lnTo>
                    <a:pt x="655" y="305"/>
                  </a:lnTo>
                  <a:lnTo>
                    <a:pt x="639" y="309"/>
                  </a:lnTo>
                  <a:lnTo>
                    <a:pt x="614" y="312"/>
                  </a:lnTo>
                  <a:lnTo>
                    <a:pt x="590" y="311"/>
                  </a:lnTo>
                  <a:lnTo>
                    <a:pt x="567" y="308"/>
                  </a:lnTo>
                  <a:lnTo>
                    <a:pt x="545" y="301"/>
                  </a:lnTo>
                  <a:lnTo>
                    <a:pt x="533" y="312"/>
                  </a:lnTo>
                  <a:lnTo>
                    <a:pt x="521" y="318"/>
                  </a:lnTo>
                  <a:lnTo>
                    <a:pt x="507" y="324"/>
                  </a:lnTo>
                  <a:lnTo>
                    <a:pt x="490" y="328"/>
                  </a:lnTo>
                  <a:lnTo>
                    <a:pt x="470" y="330"/>
                  </a:lnTo>
                  <a:lnTo>
                    <a:pt x="452" y="330"/>
                  </a:lnTo>
                  <a:lnTo>
                    <a:pt x="434" y="328"/>
                  </a:lnTo>
                  <a:lnTo>
                    <a:pt x="414" y="322"/>
                  </a:lnTo>
                  <a:lnTo>
                    <a:pt x="401" y="317"/>
                  </a:lnTo>
                  <a:lnTo>
                    <a:pt x="389" y="324"/>
                  </a:lnTo>
                  <a:lnTo>
                    <a:pt x="377" y="328"/>
                  </a:lnTo>
                  <a:lnTo>
                    <a:pt x="362" y="332"/>
                  </a:lnTo>
                  <a:lnTo>
                    <a:pt x="340" y="335"/>
                  </a:lnTo>
                  <a:lnTo>
                    <a:pt x="318" y="334"/>
                  </a:lnTo>
                  <a:lnTo>
                    <a:pt x="296" y="331"/>
                  </a:lnTo>
                  <a:lnTo>
                    <a:pt x="278" y="326"/>
                  </a:lnTo>
                  <a:lnTo>
                    <a:pt x="262" y="317"/>
                  </a:lnTo>
                  <a:lnTo>
                    <a:pt x="252" y="308"/>
                  </a:lnTo>
                  <a:lnTo>
                    <a:pt x="234" y="311"/>
                  </a:lnTo>
                  <a:lnTo>
                    <a:pt x="214" y="313"/>
                  </a:lnTo>
                  <a:lnTo>
                    <a:pt x="191" y="312"/>
                  </a:lnTo>
                  <a:lnTo>
                    <a:pt x="171" y="308"/>
                  </a:lnTo>
                  <a:lnTo>
                    <a:pt x="155" y="301"/>
                  </a:lnTo>
                  <a:lnTo>
                    <a:pt x="143" y="295"/>
                  </a:lnTo>
                  <a:lnTo>
                    <a:pt x="131" y="287"/>
                  </a:lnTo>
                  <a:lnTo>
                    <a:pt x="129" y="277"/>
                  </a:lnTo>
                  <a:lnTo>
                    <a:pt x="118" y="280"/>
                  </a:lnTo>
                  <a:lnTo>
                    <a:pt x="99" y="280"/>
                  </a:lnTo>
                  <a:lnTo>
                    <a:pt x="77" y="277"/>
                  </a:lnTo>
                  <a:lnTo>
                    <a:pt x="55" y="270"/>
                  </a:lnTo>
                  <a:lnTo>
                    <a:pt x="41" y="262"/>
                  </a:lnTo>
                  <a:lnTo>
                    <a:pt x="28" y="251"/>
                  </a:lnTo>
                  <a:lnTo>
                    <a:pt x="22" y="239"/>
                  </a:lnTo>
                  <a:lnTo>
                    <a:pt x="18" y="223"/>
                  </a:lnTo>
                  <a:lnTo>
                    <a:pt x="19" y="212"/>
                  </a:lnTo>
                  <a:lnTo>
                    <a:pt x="27" y="196"/>
                  </a:lnTo>
                  <a:lnTo>
                    <a:pt x="12" y="187"/>
                  </a:lnTo>
                  <a:lnTo>
                    <a:pt x="4" y="176"/>
                  </a:lnTo>
                  <a:lnTo>
                    <a:pt x="0" y="163"/>
                  </a:lnTo>
                  <a:lnTo>
                    <a:pt x="0" y="149"/>
                  </a:lnTo>
                  <a:lnTo>
                    <a:pt x="5" y="136"/>
                  </a:lnTo>
                  <a:lnTo>
                    <a:pt x="15" y="126"/>
                  </a:lnTo>
                  <a:lnTo>
                    <a:pt x="31" y="114"/>
                  </a:lnTo>
                  <a:lnTo>
                    <a:pt x="49" y="106"/>
                  </a:lnTo>
                  <a:lnTo>
                    <a:pt x="69" y="97"/>
                  </a:lnTo>
                  <a:lnTo>
                    <a:pt x="95" y="92"/>
                  </a:lnTo>
                  <a:lnTo>
                    <a:pt x="119" y="88"/>
                  </a:lnTo>
                  <a:lnTo>
                    <a:pt x="131" y="87"/>
                  </a:lnTo>
                  <a:lnTo>
                    <a:pt x="132" y="79"/>
                  </a:lnTo>
                </a:path>
              </a:pathLst>
            </a:custGeom>
            <a:solidFill>
              <a:srgbClr val="00cc99"/>
            </a:solidFill>
            <a:ln cap="rnd" w="25560">
              <a:solidFill>
                <a:srgbClr val="339966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61240" y="921960"/>
              <a:ext cx="619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PSTN</a:t>
              </a:r>
              <a:endParaRPr b="0" lang="en-US" sz="13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10120" y="1744560"/>
            <a:ext cx="550800" cy="152280"/>
            <a:chOff x="4110120" y="1744560"/>
            <a:chExt cx="550800" cy="152280"/>
          </a:xfrm>
        </p:grpSpPr>
        <p:sp>
          <p:nvSpPr>
            <p:cNvPr id="659" name=""/>
            <p:cNvSpPr/>
            <p:nvPr/>
          </p:nvSpPr>
          <p:spPr>
            <a:xfrm>
              <a:off x="4110120" y="1744560"/>
              <a:ext cx="5508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35400" y="1820880"/>
              <a:ext cx="25560" cy="3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84720" y="1820880"/>
              <a:ext cx="25200" cy="3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35480" y="1820880"/>
              <a:ext cx="25560" cy="3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86240" y="1820880"/>
              <a:ext cx="23760" cy="3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35560" y="1820880"/>
              <a:ext cx="25200" cy="3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86320" y="1820880"/>
              <a:ext cx="23760" cy="3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35640" y="1820880"/>
              <a:ext cx="25200" cy="3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586400" y="1820880"/>
              <a:ext cx="23760" cy="39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5320" y="1820880"/>
              <a:ext cx="25560" cy="39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179280" y="95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racti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539640" y="2616120"/>
            <a:ext cx="2159280" cy="7891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3419640" y="2616120"/>
            <a:ext cx="2158920" cy="7891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6300720" y="2616120"/>
            <a:ext cx="2158920" cy="7891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1474920" y="2819520"/>
            <a:ext cx="360360" cy="144360"/>
          </a:xfrm>
          <a:prstGeom prst="ellipse">
            <a:avLst/>
          </a:prstGeom>
          <a:noFill/>
          <a:ln w="2844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647720" y="1595520"/>
            <a:ext cx="0" cy="1224000"/>
          </a:xfrm>
          <a:prstGeom prst="line">
            <a:avLst/>
          </a:prstGeom>
          <a:ln w="2844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5" name=""/>
          <p:cNvSpPr/>
          <p:nvPr/>
        </p:nvSpPr>
        <p:spPr>
          <a:xfrm>
            <a:off x="1647720" y="1595520"/>
            <a:ext cx="1008000" cy="0"/>
          </a:xfrm>
          <a:prstGeom prst="line">
            <a:avLst/>
          </a:prstGeom>
          <a:ln w="2844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2670120" y="1336320"/>
            <a:ext cx="0" cy="268200"/>
          </a:xfrm>
          <a:prstGeom prst="line">
            <a:avLst/>
          </a:prstGeom>
          <a:ln w="28440">
            <a:solidFill>
              <a:srgbClr val="0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023840" y="2287080"/>
            <a:ext cx="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8" name=""/>
          <p:cNvSpPr/>
          <p:nvPr/>
        </p:nvSpPr>
        <p:spPr>
          <a:xfrm>
            <a:off x="1023840" y="2287440"/>
            <a:ext cx="2440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452760" y="1782720"/>
            <a:ext cx="0" cy="504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0" name=""/>
          <p:cNvSpPr/>
          <p:nvPr/>
        </p:nvSpPr>
        <p:spPr>
          <a:xfrm>
            <a:off x="3441600" y="1778040"/>
            <a:ext cx="606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913200" y="2290320"/>
            <a:ext cx="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804000" y="2268000"/>
            <a:ext cx="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3" name=""/>
          <p:cNvSpPr/>
          <p:nvPr/>
        </p:nvSpPr>
        <p:spPr>
          <a:xfrm>
            <a:off x="3903840" y="2281320"/>
            <a:ext cx="360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4254480" y="1913040"/>
            <a:ext cx="0" cy="358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0560" y="2271600"/>
            <a:ext cx="2233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4570560" y="1913040"/>
            <a:ext cx="0" cy="358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7" name=""/>
          <p:cNvSpPr/>
          <p:nvPr/>
        </p:nvSpPr>
        <p:spPr>
          <a:xfrm>
            <a:off x="754200" y="2190600"/>
            <a:ext cx="539640" cy="24624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VOI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"/>
          <p:cNvSpPr/>
          <p:nvPr/>
        </p:nvSpPr>
        <p:spPr>
          <a:xfrm>
            <a:off x="3639960" y="2181240"/>
            <a:ext cx="540000" cy="24624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VOI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"/>
          <p:cNvSpPr/>
          <p:nvPr/>
        </p:nvSpPr>
        <p:spPr>
          <a:xfrm>
            <a:off x="6532560" y="2181240"/>
            <a:ext cx="539640" cy="24624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VOI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5"/>
          <a:stretch/>
        </p:blipFill>
        <p:spPr>
          <a:xfrm>
            <a:off x="1619280" y="3454560"/>
            <a:ext cx="431640" cy="34416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6"/>
          <a:stretch/>
        </p:blipFill>
        <p:spPr>
          <a:xfrm>
            <a:off x="2070000" y="3463920"/>
            <a:ext cx="432000" cy="3445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1969920" y="32097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3" name=""/>
          <p:cNvSpPr/>
          <p:nvPr/>
        </p:nvSpPr>
        <p:spPr>
          <a:xfrm>
            <a:off x="2363760" y="32097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4503600" y="3454560"/>
            <a:ext cx="432000" cy="3441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8"/>
          <a:stretch/>
        </p:blipFill>
        <p:spPr>
          <a:xfrm>
            <a:off x="4954680" y="3463920"/>
            <a:ext cx="431640" cy="3445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854600" y="32097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5248440" y="32097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9"/>
          <a:stretch/>
        </p:blipFill>
        <p:spPr>
          <a:xfrm>
            <a:off x="7370640" y="3454560"/>
            <a:ext cx="432000" cy="34416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10"/>
          <a:stretch/>
        </p:blipFill>
        <p:spPr>
          <a:xfrm>
            <a:off x="7821720" y="3463920"/>
            <a:ext cx="431640" cy="34452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7721640" y="32097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8115480" y="32097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1565280" y="374184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72"/>
                </a:solidFill>
                <a:latin typeface="굴림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1996920" y="374184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72"/>
                </a:solidFill>
                <a:latin typeface="굴림"/>
              </a:rPr>
              <a:t>100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236680" y="3722760"/>
            <a:ext cx="5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72"/>
                </a:solidFill>
                <a:latin typeface="굴림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4416480" y="374184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72"/>
                </a:solidFill>
                <a:latin typeface="굴림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886280" y="374184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72"/>
                </a:solidFill>
                <a:latin typeface="굴림"/>
              </a:rPr>
              <a:t>200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"/>
          <p:cNvSpPr/>
          <p:nvPr/>
        </p:nvSpPr>
        <p:spPr>
          <a:xfrm>
            <a:off x="5087880" y="372276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72"/>
                </a:solidFill>
                <a:latin typeface="굴림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7302600" y="374508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72"/>
                </a:solidFill>
                <a:latin typeface="굴림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7772400" y="374508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72"/>
                </a:solidFill>
                <a:latin typeface="굴림"/>
              </a:rPr>
              <a:t>300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7974000" y="3726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72"/>
                </a:solidFill>
                <a:latin typeface="굴림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9480" y="921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428760" y="981000"/>
            <a:ext cx="831996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pLDK Voice networking provides a way of communication to inter-work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with networked system over Internet (VoIP)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pLDK provides uniform numbering plan for all users in the networ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The networked systems can be considered as one system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Extension in any system can talk with other system like extension c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Up to 72 systems can be inter-working via public or private networ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pLDK supports the total solution from Home office to Headquarter offic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with ipLDK-60 System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2480" y="9828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Overall Networking Configu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581880" y="2879640"/>
            <a:ext cx="2251080" cy="990720"/>
          </a:xfrm>
          <a:prstGeom prst="parallelogram">
            <a:avLst>
              <a:gd name="adj" fmla="val 568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7496280" y="31734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7496280" y="317484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7284960" y="3336840"/>
            <a:ext cx="21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504200" y="3479760"/>
            <a:ext cx="4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863040" y="390060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  <a:ea typeface="돋움체"/>
              </a:rPr>
              <a:t>Branch Office 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341960" y="3395520"/>
            <a:ext cx="7128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272120" y="3852720"/>
            <a:ext cx="6984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827600" y="4098960"/>
            <a:ext cx="6984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538960" y="3718080"/>
            <a:ext cx="6984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5130720" y="3489480"/>
            <a:ext cx="69840" cy="75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4" name=""/>
          <p:cNvCxnSpPr>
            <a:stCxn id="111" idx="4"/>
            <a:endCxn id="115" idx="1"/>
          </p:cNvCxnSpPr>
          <p:nvPr/>
        </p:nvCxnSpPr>
        <p:spPr>
          <a:xfrm flipH="1" rot="16200000">
            <a:off x="4956120" y="4080960"/>
            <a:ext cx="1532520" cy="17200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6" name=""/>
          <p:cNvCxnSpPr>
            <a:stCxn id="112" idx="6"/>
          </p:cNvCxnSpPr>
          <p:nvPr/>
        </p:nvCxnSpPr>
        <p:spPr>
          <a:xfrm flipV="1">
            <a:off x="5608440" y="3363120"/>
            <a:ext cx="1114920" cy="39276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544680" y="1414440"/>
            <a:ext cx="3165480" cy="1676520"/>
          </a:xfrm>
          <a:prstGeom prst="parallelogram">
            <a:avLst>
              <a:gd name="adj" fmla="val 472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66960" y="2401920"/>
            <a:ext cx="63324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25560" y="2085840"/>
            <a:ext cx="258840" cy="16668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8" idx="3"/>
            <a:endCxn id="119" idx="2"/>
          </p:cNvCxnSpPr>
          <p:nvPr/>
        </p:nvCxnSpPr>
        <p:spPr>
          <a:xfrm flipV="1">
            <a:off x="1600200" y="2251800"/>
            <a:ext cx="1256400" cy="4928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2795760" y="1927800"/>
            <a:ext cx="772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2869200"/>
            <a:ext cx="1079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F Mana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101240" y="31291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  <a:ea typeface="돋움체"/>
              </a:rPr>
              <a:t>Headquarter Offi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2168640" y="1466640"/>
            <a:ext cx="675360" cy="63396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518160" y="4556160"/>
            <a:ext cx="2462400" cy="1447920"/>
          </a:xfrm>
          <a:prstGeom prst="parallelogram">
            <a:avLst>
              <a:gd name="adj" fmla="val 4251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7456320" y="474660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456320" y="5213520"/>
            <a:ext cx="211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832440" y="5680080"/>
            <a:ext cx="844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581880" y="5622840"/>
            <a:ext cx="25848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512040" y="5774400"/>
            <a:ext cx="772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115760" y="603396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  <a:ea typeface="돋움체"/>
              </a:rPr>
              <a:t>Local Offi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7456320" y="4748040"/>
            <a:ext cx="2113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33" name=""/>
          <p:cNvCxnSpPr>
            <a:stCxn id="109" idx="0"/>
            <a:endCxn id="119" idx="3"/>
          </p:cNvCxnSpPr>
          <p:nvPr/>
        </p:nvCxnSpPr>
        <p:spPr>
          <a:xfrm flipV="1" rot="16200000">
            <a:off x="3068280" y="2085120"/>
            <a:ext cx="1226160" cy="13946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34" name=""/>
          <p:cNvCxnSpPr/>
          <p:nvPr/>
        </p:nvCxnSpPr>
        <p:spPr>
          <a:xfrm flipH="1" flipV="1" rot="5400000">
            <a:off x="5208120" y="1928160"/>
            <a:ext cx="1581840" cy="170244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539640" y="4462560"/>
            <a:ext cx="3164040" cy="1218960"/>
          </a:xfrm>
          <a:prstGeom prst="parallelogram">
            <a:avLst>
              <a:gd name="adj" fmla="val 6489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1739520" y="4538160"/>
            <a:ext cx="1097640" cy="34380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2808360" y="4682160"/>
            <a:ext cx="77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865160" y="4300560"/>
            <a:ext cx="69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pLDK-6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373400" y="57196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  <a:ea typeface="돋움체"/>
              </a:rPr>
              <a:t>Branch Office 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300320" y="4719600"/>
            <a:ext cx="784080" cy="385560"/>
            <a:chOff x="1300320" y="4719600"/>
            <a:chExt cx="784080" cy="385560"/>
          </a:xfrm>
        </p:grpSpPr>
        <p:sp>
          <p:nvSpPr>
            <p:cNvPr id="141" name=""/>
            <p:cNvSpPr/>
            <p:nvPr/>
          </p:nvSpPr>
          <p:spPr>
            <a:xfrm>
              <a:off x="1300320" y="4948200"/>
              <a:ext cx="78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00320" y="4948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84400" y="4948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94160" y="4719600"/>
              <a:ext cx="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719440" y="4843440"/>
            <a:ext cx="260280" cy="166680"/>
          </a:xfrm>
          <a:prstGeom prst="rect">
            <a:avLst/>
          </a:prstGeom>
          <a:ln w="0">
            <a:noFill/>
          </a:ln>
        </p:spPr>
      </p:pic>
      <p:cxnSp>
        <p:nvCxnSpPr>
          <p:cNvPr id="146" name=""/>
          <p:cNvCxnSpPr>
            <a:stCxn id="110" idx="3"/>
            <a:endCxn id="145" idx="3"/>
          </p:cNvCxnSpPr>
          <p:nvPr/>
        </p:nvCxnSpPr>
        <p:spPr>
          <a:xfrm rot="5400000">
            <a:off x="3125160" y="3771720"/>
            <a:ext cx="1010520" cy="130248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971640" y="4005360"/>
            <a:ext cx="863640" cy="760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116000" y="2085840"/>
            <a:ext cx="457200" cy="339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628640" y="2085840"/>
            <a:ext cx="457200" cy="339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1258920" y="1052640"/>
            <a:ext cx="863640" cy="760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52800" y="1216080"/>
            <a:ext cx="69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pLDK-6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90760" y="1695600"/>
            <a:ext cx="784080" cy="385560"/>
            <a:chOff x="1490760" y="1695600"/>
            <a:chExt cx="784080" cy="385560"/>
          </a:xfrm>
        </p:grpSpPr>
        <p:sp>
          <p:nvSpPr>
            <p:cNvPr id="153" name=""/>
            <p:cNvSpPr/>
            <p:nvPr/>
          </p:nvSpPr>
          <p:spPr>
            <a:xfrm>
              <a:off x="1490760" y="1924200"/>
              <a:ext cx="78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90760" y="1924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74840" y="1924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84600" y="1695600"/>
              <a:ext cx="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2124000" y="2085840"/>
            <a:ext cx="503280" cy="341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947880" y="5127480"/>
            <a:ext cx="457200" cy="339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1460520" y="5127480"/>
            <a:ext cx="457200" cy="339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1955880" y="5127480"/>
            <a:ext cx="503280" cy="341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>
            <a:off x="6710400" y="3056040"/>
            <a:ext cx="641160" cy="565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4"/>
          <a:stretch/>
        </p:blipFill>
        <p:spPr>
          <a:xfrm>
            <a:off x="7667640" y="4602240"/>
            <a:ext cx="603360" cy="372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96360" y="5683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40720" y="5021280"/>
            <a:ext cx="603360" cy="372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7740720" y="5454720"/>
            <a:ext cx="603360" cy="372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tretch/>
        </p:blipFill>
        <p:spPr>
          <a:xfrm>
            <a:off x="7837560" y="2932200"/>
            <a:ext cx="503280" cy="341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8"/>
          <a:stretch/>
        </p:blipFill>
        <p:spPr>
          <a:xfrm>
            <a:off x="7870680" y="3325680"/>
            <a:ext cx="503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3481560" y="2557440"/>
            <a:ext cx="2431440" cy="1752120"/>
            <a:chOff x="3481560" y="2557440"/>
            <a:chExt cx="2431440" cy="1752120"/>
          </a:xfrm>
        </p:grpSpPr>
        <p:pic>
          <p:nvPicPr>
            <p:cNvPr id="169" name="" descr=""/>
            <p:cNvPicPr/>
            <p:nvPr/>
          </p:nvPicPr>
          <p:blipFill>
            <a:blip r:embed="rId19"/>
            <a:stretch/>
          </p:blipFill>
          <p:spPr>
            <a:xfrm>
              <a:off x="3481560" y="2557440"/>
              <a:ext cx="243144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812400" y="310896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IP Network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523200" y="860400"/>
            <a:ext cx="2462040" cy="1447920"/>
          </a:xfrm>
          <a:prstGeom prst="parallelogram">
            <a:avLst>
              <a:gd name="adj" fmla="val 4251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7461360" y="105084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461360" y="1517760"/>
            <a:ext cx="2109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837480" y="1984320"/>
            <a:ext cx="844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0"/>
          <a:stretch/>
        </p:blipFill>
        <p:spPr>
          <a:xfrm>
            <a:off x="6576840" y="1898640"/>
            <a:ext cx="258840" cy="166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516720" y="2078640"/>
            <a:ext cx="772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120800" y="233856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  <a:ea typeface="돋움체"/>
              </a:rPr>
              <a:t>Local Offi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461360" y="1052640"/>
            <a:ext cx="2109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7601040" y="1987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>
            <a:off x="7686720" y="882720"/>
            <a:ext cx="474480" cy="399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2"/>
          <a:stretch/>
        </p:blipFill>
        <p:spPr>
          <a:xfrm>
            <a:off x="7697880" y="1327320"/>
            <a:ext cx="474480" cy="399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7667640" y="1758960"/>
            <a:ext cx="474480" cy="39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43640" y="2852640"/>
            <a:ext cx="69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pLDK-6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7451640" y="4365720"/>
            <a:ext cx="1079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P Phone User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7380360" y="719280"/>
            <a:ext cx="1224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3333cc"/>
                </a:solidFill>
                <a:latin typeface="Arial"/>
              </a:rPr>
              <a:t>Phontage User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4"/>
          <a:stretch/>
        </p:blipFill>
        <p:spPr>
          <a:xfrm>
            <a:off x="5651640" y="790560"/>
            <a:ext cx="98712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1480" y="921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371600"/>
            <a:ext cx="7435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 Call (Basic Cal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 Call Transfer (Screen / Unscreene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 Call Forward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nditional / Busy / No Answer / Busy No Answer / Follow-M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Displ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Offer(Camp-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Waiting Indication (MWI by Requ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Completion (Call Back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Transit-In/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ent Text Message Ser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Not Disturb (DND) Ser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y Lamp Field (BLF) Ser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ized SMD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ized V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387360" y="836640"/>
            <a:ext cx="5337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QSIG Features are provid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47640" y="2208240"/>
            <a:ext cx="2660760" cy="933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1920" y="95400"/>
            <a:ext cx="22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VoIP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389160" y="765000"/>
            <a:ext cx="447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IP Connection between System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3886200"/>
            <a:ext cx="7086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2637000"/>
            <a:ext cx="0" cy="1223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210040" y="1676520"/>
            <a:ext cx="83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6067080" y="1676520"/>
            <a:ext cx="71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7913160" y="3701880"/>
            <a:ext cx="60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80680" y="2911320"/>
            <a:ext cx="983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 N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~ 147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7695720" y="2911320"/>
            <a:ext cx="983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 N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~ 247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2852640"/>
            <a:ext cx="0" cy="104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1844640"/>
            <a:ext cx="1873440" cy="863640"/>
          </a:xfrm>
          <a:prstGeom prst="line">
            <a:avLst/>
          </a:prstGeom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4332240"/>
            <a:ext cx="3733920" cy="169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ran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~147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PB IP Addres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68.23.1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OIB IP Addres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68.23.1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 Line typ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LCOB : Normal, VOIB  : ISDN DID) </a:t>
            </a:r>
            <a:r>
              <a:rPr b="1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PGM14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5. DID Conversion Type : Type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6. CO Range :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LCOB : 1~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VOIB : 7~1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7. Net CO Group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VOIB  : Net CO Group 01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LCOB : Net CO Group 0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4332240"/>
            <a:ext cx="3381480" cy="169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on ran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~247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PB IP Addres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68.23.2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OIB IP Addres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68.23.2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 Line typ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VOIB : ISDN DID) </a:t>
            </a:r>
            <a:r>
              <a:rPr b="1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PGM14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5. DID Conversion Type : Type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6. CO Range :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VOIB : 1~6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7. Net CO Group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VOIB : Net CO Group 01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038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</a:rPr>
              <a:t>Master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219720" y="4038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</a:rPr>
              <a:t>Slave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1905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9” :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 Access Cod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6076800"/>
            <a:ext cx="59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IP Networking Lock Key(5) for each system is required to u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768320" y="3301920"/>
            <a:ext cx="54000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AN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195280" y="2647800"/>
            <a:ext cx="42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448000" y="3306600"/>
            <a:ext cx="539640" cy="246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VOI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8120" y="1274760"/>
            <a:ext cx="1083960" cy="685440"/>
            <a:chOff x="168120" y="1274760"/>
            <a:chExt cx="1083960" cy="685440"/>
          </a:xfrm>
        </p:grpSpPr>
        <p:sp>
          <p:nvSpPr>
            <p:cNvPr id="212" name=""/>
            <p:cNvSpPr/>
            <p:nvPr/>
          </p:nvSpPr>
          <p:spPr>
            <a:xfrm>
              <a:off x="168120" y="1274760"/>
              <a:ext cx="1083960" cy="685440"/>
            </a:xfrm>
            <a:custGeom>
              <a:avLst/>
              <a:gdLst/>
              <a:ahLst/>
              <a:rect l="l" t="t" r="r" b="b"/>
              <a:pathLst>
                <a:path w="832" h="336">
                  <a:moveTo>
                    <a:pt x="132" y="79"/>
                  </a:moveTo>
                  <a:lnTo>
                    <a:pt x="139" y="70"/>
                  </a:lnTo>
                  <a:lnTo>
                    <a:pt x="149" y="60"/>
                  </a:lnTo>
                  <a:lnTo>
                    <a:pt x="166" y="53"/>
                  </a:lnTo>
                  <a:lnTo>
                    <a:pt x="186" y="46"/>
                  </a:lnTo>
                  <a:lnTo>
                    <a:pt x="204" y="44"/>
                  </a:lnTo>
                  <a:lnTo>
                    <a:pt x="224" y="40"/>
                  </a:lnTo>
                  <a:lnTo>
                    <a:pt x="257" y="39"/>
                  </a:lnTo>
                  <a:lnTo>
                    <a:pt x="288" y="40"/>
                  </a:lnTo>
                  <a:lnTo>
                    <a:pt x="316" y="44"/>
                  </a:lnTo>
                  <a:lnTo>
                    <a:pt x="338" y="49"/>
                  </a:lnTo>
                  <a:lnTo>
                    <a:pt x="350" y="32"/>
                  </a:lnTo>
                  <a:lnTo>
                    <a:pt x="367" y="21"/>
                  </a:lnTo>
                  <a:lnTo>
                    <a:pt x="389" y="11"/>
                  </a:lnTo>
                  <a:lnTo>
                    <a:pt x="417" y="5"/>
                  </a:lnTo>
                  <a:lnTo>
                    <a:pt x="453" y="0"/>
                  </a:lnTo>
                  <a:lnTo>
                    <a:pt x="487" y="0"/>
                  </a:lnTo>
                  <a:lnTo>
                    <a:pt x="519" y="2"/>
                  </a:lnTo>
                  <a:lnTo>
                    <a:pt x="554" y="8"/>
                  </a:lnTo>
                  <a:lnTo>
                    <a:pt x="581" y="18"/>
                  </a:lnTo>
                  <a:lnTo>
                    <a:pt x="599" y="28"/>
                  </a:lnTo>
                  <a:lnTo>
                    <a:pt x="611" y="39"/>
                  </a:lnTo>
                  <a:lnTo>
                    <a:pt x="614" y="51"/>
                  </a:lnTo>
                  <a:lnTo>
                    <a:pt x="639" y="48"/>
                  </a:lnTo>
                  <a:lnTo>
                    <a:pt x="667" y="49"/>
                  </a:lnTo>
                  <a:lnTo>
                    <a:pt x="691" y="53"/>
                  </a:lnTo>
                  <a:lnTo>
                    <a:pt x="713" y="62"/>
                  </a:lnTo>
                  <a:lnTo>
                    <a:pt x="727" y="74"/>
                  </a:lnTo>
                  <a:lnTo>
                    <a:pt x="732" y="86"/>
                  </a:lnTo>
                  <a:lnTo>
                    <a:pt x="732" y="96"/>
                  </a:lnTo>
                  <a:lnTo>
                    <a:pt x="746" y="95"/>
                  </a:lnTo>
                  <a:lnTo>
                    <a:pt x="763" y="97"/>
                  </a:lnTo>
                  <a:lnTo>
                    <a:pt x="781" y="102"/>
                  </a:lnTo>
                  <a:lnTo>
                    <a:pt x="794" y="107"/>
                  </a:lnTo>
                  <a:lnTo>
                    <a:pt x="804" y="112"/>
                  </a:lnTo>
                  <a:lnTo>
                    <a:pt x="811" y="118"/>
                  </a:lnTo>
                  <a:lnTo>
                    <a:pt x="820" y="125"/>
                  </a:lnTo>
                  <a:lnTo>
                    <a:pt x="825" y="133"/>
                  </a:lnTo>
                  <a:lnTo>
                    <a:pt x="827" y="140"/>
                  </a:lnTo>
                  <a:lnTo>
                    <a:pt x="824" y="147"/>
                  </a:lnTo>
                  <a:lnTo>
                    <a:pt x="818" y="156"/>
                  </a:lnTo>
                  <a:lnTo>
                    <a:pt x="825" y="165"/>
                  </a:lnTo>
                  <a:lnTo>
                    <a:pt x="829" y="175"/>
                  </a:lnTo>
                  <a:lnTo>
                    <a:pt x="830" y="184"/>
                  </a:lnTo>
                  <a:lnTo>
                    <a:pt x="827" y="195"/>
                  </a:lnTo>
                  <a:lnTo>
                    <a:pt x="823" y="202"/>
                  </a:lnTo>
                  <a:lnTo>
                    <a:pt x="815" y="210"/>
                  </a:lnTo>
                  <a:lnTo>
                    <a:pt x="827" y="221"/>
                  </a:lnTo>
                  <a:lnTo>
                    <a:pt x="830" y="228"/>
                  </a:lnTo>
                  <a:lnTo>
                    <a:pt x="831" y="239"/>
                  </a:lnTo>
                  <a:lnTo>
                    <a:pt x="829" y="249"/>
                  </a:lnTo>
                  <a:lnTo>
                    <a:pt x="821" y="261"/>
                  </a:lnTo>
                  <a:lnTo>
                    <a:pt x="811" y="269"/>
                  </a:lnTo>
                  <a:lnTo>
                    <a:pt x="796" y="277"/>
                  </a:lnTo>
                  <a:lnTo>
                    <a:pt x="771" y="284"/>
                  </a:lnTo>
                  <a:lnTo>
                    <a:pt x="746" y="287"/>
                  </a:lnTo>
                  <a:lnTo>
                    <a:pt x="723" y="285"/>
                  </a:lnTo>
                  <a:lnTo>
                    <a:pt x="706" y="281"/>
                  </a:lnTo>
                  <a:lnTo>
                    <a:pt x="695" y="289"/>
                  </a:lnTo>
                  <a:lnTo>
                    <a:pt x="684" y="295"/>
                  </a:lnTo>
                  <a:lnTo>
                    <a:pt x="674" y="299"/>
                  </a:lnTo>
                  <a:lnTo>
                    <a:pt x="655" y="305"/>
                  </a:lnTo>
                  <a:lnTo>
                    <a:pt x="639" y="309"/>
                  </a:lnTo>
                  <a:lnTo>
                    <a:pt x="614" y="312"/>
                  </a:lnTo>
                  <a:lnTo>
                    <a:pt x="590" y="311"/>
                  </a:lnTo>
                  <a:lnTo>
                    <a:pt x="567" y="308"/>
                  </a:lnTo>
                  <a:lnTo>
                    <a:pt x="545" y="301"/>
                  </a:lnTo>
                  <a:lnTo>
                    <a:pt x="533" y="312"/>
                  </a:lnTo>
                  <a:lnTo>
                    <a:pt x="521" y="318"/>
                  </a:lnTo>
                  <a:lnTo>
                    <a:pt x="507" y="324"/>
                  </a:lnTo>
                  <a:lnTo>
                    <a:pt x="490" y="328"/>
                  </a:lnTo>
                  <a:lnTo>
                    <a:pt x="470" y="330"/>
                  </a:lnTo>
                  <a:lnTo>
                    <a:pt x="452" y="330"/>
                  </a:lnTo>
                  <a:lnTo>
                    <a:pt x="434" y="328"/>
                  </a:lnTo>
                  <a:lnTo>
                    <a:pt x="414" y="322"/>
                  </a:lnTo>
                  <a:lnTo>
                    <a:pt x="401" y="317"/>
                  </a:lnTo>
                  <a:lnTo>
                    <a:pt x="389" y="324"/>
                  </a:lnTo>
                  <a:lnTo>
                    <a:pt x="377" y="328"/>
                  </a:lnTo>
                  <a:lnTo>
                    <a:pt x="362" y="332"/>
                  </a:lnTo>
                  <a:lnTo>
                    <a:pt x="340" y="335"/>
                  </a:lnTo>
                  <a:lnTo>
                    <a:pt x="318" y="334"/>
                  </a:lnTo>
                  <a:lnTo>
                    <a:pt x="296" y="331"/>
                  </a:lnTo>
                  <a:lnTo>
                    <a:pt x="278" y="326"/>
                  </a:lnTo>
                  <a:lnTo>
                    <a:pt x="262" y="317"/>
                  </a:lnTo>
                  <a:lnTo>
                    <a:pt x="252" y="308"/>
                  </a:lnTo>
                  <a:lnTo>
                    <a:pt x="234" y="311"/>
                  </a:lnTo>
                  <a:lnTo>
                    <a:pt x="214" y="313"/>
                  </a:lnTo>
                  <a:lnTo>
                    <a:pt x="191" y="312"/>
                  </a:lnTo>
                  <a:lnTo>
                    <a:pt x="171" y="308"/>
                  </a:lnTo>
                  <a:lnTo>
                    <a:pt x="155" y="301"/>
                  </a:lnTo>
                  <a:lnTo>
                    <a:pt x="143" y="295"/>
                  </a:lnTo>
                  <a:lnTo>
                    <a:pt x="131" y="287"/>
                  </a:lnTo>
                  <a:lnTo>
                    <a:pt x="129" y="277"/>
                  </a:lnTo>
                  <a:lnTo>
                    <a:pt x="118" y="280"/>
                  </a:lnTo>
                  <a:lnTo>
                    <a:pt x="99" y="280"/>
                  </a:lnTo>
                  <a:lnTo>
                    <a:pt x="77" y="277"/>
                  </a:lnTo>
                  <a:lnTo>
                    <a:pt x="55" y="270"/>
                  </a:lnTo>
                  <a:lnTo>
                    <a:pt x="41" y="262"/>
                  </a:lnTo>
                  <a:lnTo>
                    <a:pt x="28" y="251"/>
                  </a:lnTo>
                  <a:lnTo>
                    <a:pt x="22" y="239"/>
                  </a:lnTo>
                  <a:lnTo>
                    <a:pt x="18" y="223"/>
                  </a:lnTo>
                  <a:lnTo>
                    <a:pt x="19" y="212"/>
                  </a:lnTo>
                  <a:lnTo>
                    <a:pt x="27" y="196"/>
                  </a:lnTo>
                  <a:lnTo>
                    <a:pt x="12" y="187"/>
                  </a:lnTo>
                  <a:lnTo>
                    <a:pt x="4" y="176"/>
                  </a:lnTo>
                  <a:lnTo>
                    <a:pt x="0" y="163"/>
                  </a:lnTo>
                  <a:lnTo>
                    <a:pt x="0" y="149"/>
                  </a:lnTo>
                  <a:lnTo>
                    <a:pt x="5" y="136"/>
                  </a:lnTo>
                  <a:lnTo>
                    <a:pt x="15" y="126"/>
                  </a:lnTo>
                  <a:lnTo>
                    <a:pt x="31" y="114"/>
                  </a:lnTo>
                  <a:lnTo>
                    <a:pt x="49" y="106"/>
                  </a:lnTo>
                  <a:lnTo>
                    <a:pt x="69" y="97"/>
                  </a:lnTo>
                  <a:lnTo>
                    <a:pt x="95" y="92"/>
                  </a:lnTo>
                  <a:lnTo>
                    <a:pt x="119" y="88"/>
                  </a:lnTo>
                  <a:lnTo>
                    <a:pt x="131" y="87"/>
                  </a:lnTo>
                  <a:lnTo>
                    <a:pt x="132" y="79"/>
                  </a:lnTo>
                </a:path>
              </a:pathLst>
            </a:custGeom>
            <a:solidFill>
              <a:srgbClr val="00cc99"/>
            </a:solidFill>
            <a:ln cap="rnd" w="25560">
              <a:solidFill>
                <a:srgbClr val="339966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8920" y="1364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235160" y="1879560"/>
            <a:ext cx="539640" cy="246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16040" y="2421000"/>
            <a:ext cx="698400" cy="527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812000" y="2440080"/>
            <a:ext cx="698760" cy="527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79960" y="2205000"/>
            <a:ext cx="266076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59600" y="2633760"/>
            <a:ext cx="0" cy="12240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5656320" y="2849400"/>
            <a:ext cx="0" cy="104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300640" y="3298680"/>
            <a:ext cx="53964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AN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727240" y="2644920"/>
            <a:ext cx="422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5979960" y="3303720"/>
            <a:ext cx="540000" cy="246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VOI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1920" y="95400"/>
            <a:ext cx="22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VoIP Conne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885960" y="1087560"/>
            <a:ext cx="3000240" cy="40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Networking Tab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PGM32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: Net Enab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PGM322 (Net CO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: Net CO Group = 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4 : Net CO Type = NET or PST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VOIB  : Net CO Group 01/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LCOB : Net CO Group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0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PGM32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N 00 (Master, itself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(Usage) =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2 (STA Number) = 1#*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3 (Net CO Gr) = 0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N 01 (Slave system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(Usage) =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2 (STA Number) = 2*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3 (Net CO Gr) = 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BTN 4 (CPN) /BTN(1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CPN IP Info 1= 192.168.23.2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N 02 (Master system)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(*Note 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(Usage) =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2 (STA Number) = 9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(*Note 1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3 (Net CO Gr) =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486400" y="1087560"/>
            <a:ext cx="3352680" cy="44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Networking Tab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PGM32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: Net Enab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PGM322 (Net CO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: Net CO Group = 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4 : Net CO Type = NET or PST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VOIB  : Net CO Group 01/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PGM32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N 00 (Slave, itself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(Usage) =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2 (STA Number) = 2#*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3 (Net CO Gr) = 0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N 01 (Master system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(Usage) =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2 (STA Number) = 1*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3 (Net CO Gr) = 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BTN 4 (CPN) /BTN(1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CPN IP Info 1 = 192.168.23.1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N 02 (Master system)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(*Note 2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1 (Usage) =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2 (STA Number) = 9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(*Note 1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TN 3 (Net CO Gr) =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BTN 4 (CPN) /BTN(1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CPN IP Info 1 = 192.168.23.1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BTN 7 (Digit Repeat) = Y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1657440" y="7650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</a:rPr>
              <a:t>Master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6438960" y="765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Arial"/>
              </a:rPr>
              <a:t>Slave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5260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* Note 1 : Delete 1</a:t>
            </a:r>
            <a:r>
              <a:rPr b="1" i="1" lang="en-US" sz="12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 CO Group Access Code (PGM107) in advanc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* Note 2 : A station in slave system can access the LCOB lines of master system by dialing “9”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               “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9” should not be used in numbering pla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44600" y="3139920"/>
            <a:ext cx="2952720" cy="158436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895320" y="4202280"/>
            <a:ext cx="11127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1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1897200" y="4148280"/>
            <a:ext cx="10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10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68400" y="35542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936800" y="35002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258920" y="2205000"/>
            <a:ext cx="1346040" cy="1328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77480" y="9540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Networking Practi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838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00644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scenari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168640" y="765000"/>
            <a:ext cx="54781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make Networking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Make Networking System A and B with VOIB CO (CO 4~7)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913120" y="3917520"/>
            <a:ext cx="339840" cy="4680"/>
          </a:xfrm>
          <a:prstGeom prst="line">
            <a:avLst/>
          </a:prstGeom>
          <a:ln cap="rnd" w="38160">
            <a:solidFill>
              <a:srgbClr val="ff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294120" y="5157720"/>
            <a:ext cx="4079160" cy="53136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 How to operate &amp; Program 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Reference VOIP connection P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3124080"/>
            <a:ext cx="2952720" cy="158436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6391440" y="4186080"/>
            <a:ext cx="1112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201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392960" y="4132440"/>
            <a:ext cx="10890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on 20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464160" y="353844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7432560" y="348444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754680" y="2189160"/>
            <a:ext cx="1346400" cy="1328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V="1">
            <a:off x="8408880" y="3901680"/>
            <a:ext cx="339840" cy="4680"/>
          </a:xfrm>
          <a:prstGeom prst="line">
            <a:avLst/>
          </a:prstGeom>
          <a:ln cap="rnd" w="38160">
            <a:solidFill>
              <a:srgbClr val="ff99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419640" y="1700280"/>
            <a:ext cx="2431440" cy="1752120"/>
            <a:chOff x="3419640" y="1700280"/>
            <a:chExt cx="2431440" cy="1752120"/>
          </a:xfrm>
        </p:grpSpPr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3419640" y="1700280"/>
              <a:ext cx="243144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750480" y="225180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IP Network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2627280" y="2491920"/>
            <a:ext cx="720720" cy="289080"/>
          </a:xfrm>
          <a:prstGeom prst="line">
            <a:avLst/>
          </a:prstGeom>
          <a:ln w="57240">
            <a:solidFill>
              <a:srgbClr val="1c1c7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889600" y="2476080"/>
            <a:ext cx="720720" cy="289080"/>
          </a:xfrm>
          <a:prstGeom prst="line">
            <a:avLst/>
          </a:prstGeom>
          <a:ln w="57240">
            <a:solidFill>
              <a:srgbClr val="1c1c7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28680" y="191628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00"/>
                </a:solidFill>
                <a:latin typeface="Arial"/>
              </a:rPr>
              <a:t>System 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732720" y="191772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00"/>
                </a:solidFill>
                <a:latin typeface="Arial"/>
              </a:rPr>
              <a:t>System 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06520" y="2913120"/>
            <a:ext cx="46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1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03560" y="2492280"/>
            <a:ext cx="608040" cy="457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56000" y="191772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77480" y="9540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Networking Practi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83664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00644a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scenari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167920" y="763560"/>
            <a:ext cx="37699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make Networking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Make Networking System A and B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780000" y="1484280"/>
            <a:ext cx="1728720" cy="936720"/>
            <a:chOff x="3780000" y="1484280"/>
            <a:chExt cx="1728720" cy="93672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3780000" y="1484280"/>
              <a:ext cx="172872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015080" y="1779120"/>
              <a:ext cx="119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바탕"/>
                </a:rPr>
                <a:t>IP Networ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V="1">
            <a:off x="3132000" y="1917360"/>
            <a:ext cx="720720" cy="289080"/>
          </a:xfrm>
          <a:prstGeom prst="line">
            <a:avLst/>
          </a:prstGeom>
          <a:ln w="57240">
            <a:solidFill>
              <a:srgbClr val="1c1c7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5437080" y="1917360"/>
            <a:ext cx="720720" cy="289080"/>
          </a:xfrm>
          <a:prstGeom prst="line">
            <a:avLst/>
          </a:prstGeom>
          <a:ln w="57240">
            <a:solidFill>
              <a:srgbClr val="1c1c7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165400" y="162864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00"/>
                </a:solidFill>
                <a:latin typeface="Arial"/>
              </a:rPr>
              <a:t>System 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5796000" y="1558800"/>
            <a:ext cx="12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00"/>
                </a:solidFill>
                <a:latin typeface="Arial"/>
              </a:rPr>
              <a:t>System 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6156360" y="1917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2884320" y="2492280"/>
            <a:ext cx="608040" cy="457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027240" y="2906640"/>
            <a:ext cx="46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2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5918040" y="2897280"/>
            <a:ext cx="465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815080" y="2476440"/>
            <a:ext cx="60804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6496200" y="2476440"/>
            <a:ext cx="608040" cy="457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638760" y="2890800"/>
            <a:ext cx="465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2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3213000"/>
            <a:ext cx="4032360" cy="300996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 How to operate &amp; Program System B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PGM 105 + del + 200 247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PGM 140 + 04 07 + Flx1 + 3 (ISDN/DID Typ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PGM 143 + 04 07 + Flx4 +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PGM 340 + Flx1 + 10.10.20.1 (VOIB IP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PGM 340 + Flx2 + 10.10.20.254 (VOIB Gateway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PGM 320 + Flx1 + 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PGM 322 + 04 07 + Flx1 + 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 PGM 322 + 04 07 + Flx4 +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 PGM 324 + 00 + Flx1 +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. PGM 324 + 00 + Flx2 + 2#*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. PGM 324 + 00 + Flx3 + 0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 PGM 324 + 01 + Flx1 +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. PGM 324 + 01 + Flx2 + 1*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 PGM 324 + 01 + Flx3 + 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 PGM 324 + 01 + Flx4 + Flx1 + 10.10.10.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3218040"/>
            <a:ext cx="4032360" cy="300996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[ How to operate &amp; Program System A]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PGM 105 + del + 100 147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PGM 140 + 04 07 + Flx1 + 3 (ISDN/DID Typ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PGM 143 + 04 07 + Flx4 +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PGM 340 + Flx1 + 10.10.10.1 (VOIB IP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PGM 340 + Flx2 + 10.10.10.254 (VOIB Gateway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PGM 320 + Flx1 + 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PGM 322 + 04 07 + Flx1 + 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 PGM 322 + 04 07 + Flx4 +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 PGM 324 + 00 + Flx1 +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. PGM 324 + 00 + Flx2 + 1#*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. PGM 324 + 00 + Flx3 + 0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 PGM 324 + 01 + Flx1 + 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. PGM 324 + 01 + Flx2 + 2*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 PGM 324 + 01 + Flx3 + 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 PGM 324 + 01 + Flx4 + Flx1 + 10.10.20.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5:33:48Z</dcterms:created>
  <dc:creator>이상춘</dc:creator>
  <dc:description/>
  <dc:language>en-US</dc:language>
  <cp:lastModifiedBy>김완경</cp:lastModifiedBy>
  <dcterms:modified xsi:type="dcterms:W3CDTF">2007-03-10T08:03:42Z</dcterms:modified>
  <cp:revision>165</cp:revision>
  <dc:subject/>
  <dc:title>PowerPoint 프레젠테이션</dc:title>
</cp:coreProperties>
</file>